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8789-06AB-434E-9598-EA624659E2B0}" type="slidenum"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845E-C593-461D-9B62-106290568B11}" type="slidenum"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5A1-E20B-41DC-BA3C-7D08EB9C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A5B-CDD4-43D8-ACE9-47FAA365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C3F-1753-409C-90F7-41D4D0F8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134-C2D6-47C0-934B-444D34A3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DD8-52A1-44A8-8735-C1DBD93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9F1-D9BC-48C1-A005-8F23731A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BF6-45A5-4D23-AB59-62005C81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F49-1898-4B76-9BCB-9A3FFB21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A4C-E1D0-4126-A64F-0FDFB466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45B-01A1-45A3-924E-4E87D263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BE3-5028-4264-A128-6382113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B4E-690D-49B4-9B59-091F507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60D1-E45F-471F-AA0A-CF782225E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asila Sebagai Pandangan Hidup Bang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46160"/>
            <a:ext cx="64008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le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ang Priya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000" y="1028520"/>
            <a:ext cx="8001000" cy="21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ngan Hidup merupakan suatu wawasan yang menyeluruh terhadap kehidup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7240" y="342864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hidup bangsa dapat disebut sebagai ideologi bangsa (nasional), dan pandangan hidup negara yang dapat disebut sebagai ideologi neg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000" y="452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ngan hidup bangsa diproyeksikan kepada pandangan hidup masyarakat serta tercermin dalam sikap hidup pribadi warga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3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am negara Pancasila pandangan hidup masyarakat tercermin dalam kehidupan negar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merintah terikat oleh kewajiban konstitusional, yaitu kewajiban untuk memelihara budi pekerti kemanusiaan yang luhur dan memegang teguh cita-cita moral rakyat yang luh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000" y="380880"/>
            <a:ext cx="8001000" cy="24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casila sebagai pandangan hidup bangsa terkandung di dalamnya konsepsi dasar mengenai kehidupan yang dicita-citakan, terkandung dasar pikiran terdalam dan gagasan mengenai wujud kehidupan yang ba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3068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asila sebagai pandangan hidup bangsa merupakan suatu kristalisasi nilai-nilai yang hidup dalam masyarakat Indone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hidup Pancasila berakar pada budaya dan pandangan hidup masyara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1101600"/>
            <a:ext cx="7856280" cy="463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bagai inti sari dari nilai budaya masyarakat Indonesia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ancasila merupakan cita-cita moral bangsa yang memberikan kekuatan rohaniah bagi bangsa untuk berperilaku dalam kehidupan sehari-hari dalam bermasyarakat, berbangsa dan bernega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2:55:29Z</dcterms:created>
  <dc:creator>Aspire 4710</dc:creator>
  <dc:description/>
  <dc:language>en-US</dc:language>
  <cp:lastModifiedBy>UNY</cp:lastModifiedBy>
  <dcterms:modified xsi:type="dcterms:W3CDTF">2014-04-14T01:38:51Z</dcterms:modified>
  <cp:revision>8</cp:revision>
  <dc:subject/>
  <dc:title>Pancasila Sebagai Pandangan Hidup Bangsa</dc:title>
</cp:coreProperties>
</file>