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5038-62DB-4746-8CC7-CDCC106FD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F955-6AA2-4E4F-9788-37ABFAEDDC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11C50-9D59-4166-9A32-671BFB12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007E-53DC-4714-9954-65E88C36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7B7C2-B7D9-4F19-B6C1-5011E40E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9D15F-9C0B-4F68-B324-D37AA2D8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45DD-691B-4FF0-A18F-93A9485B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2130-388E-4903-96ED-E79C8AE9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52B9-FC3B-4AA6-98B2-74FF80E4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EEFF-ACB5-4D46-8866-A6C96F24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CE35-178E-4E51-BC2D-5531D191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6CB2-C76C-4478-BFDF-861CC3E0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C6A1-4583-40D0-B5C2-2A2D64F7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5A8D2-7217-49CA-8A38-7FD2F8BE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39EC-2471-4F5F-A862-FC47DACF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7A97-A495-4657-968F-83B268FB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CA61-A3A1-4EB2-A8FE-7A180D51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D736-2415-451C-A6E4-55911430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4A95-7277-446C-B4A4-7D05D212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6068-3035-4D23-888E-C80CFD73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C9273-E39D-40CF-96B0-38507FFF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89FF-550B-44E0-97B7-CF483D73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8C5A1-1066-4A0F-A3B0-8CDDEFD0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5D4B8-5B43-4145-BBF7-673ECE12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BCA21-B71F-4CCF-84ED-F249FBF0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3795E-D9BD-4966-ADD0-7B334C30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5BD5-4D30-4455-B32C-51E064C223D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00AF-97C0-4852-B6F9-A2D45B2FFB1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..%5C..%5C..%5CDATA%20NUR%20ROKHMAN%201%5CMEDIA%20INDONESIA%20ABAD%2016-18%20duplikat%5CPERLAK%20DAN%20PASAI%5CKERAJAAN%20ISLAM%20TERTUA%20NUSANTARA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133720"/>
            <a:ext cx="8382240" cy="1139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KERAJAAN BERCORAK ISLAM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Smiley Face 3">
            <a:hlinkClick r:id="rId1"/>
          </p:cNvPr>
          <p:cNvSpPr/>
          <p:nvPr/>
        </p:nvSpPr>
        <p:spPr>
          <a:xfrm>
            <a:off x="3809880" y="3886200"/>
            <a:ext cx="838440" cy="9144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08:27:03Z</dcterms:created>
  <dc:creator>History Education Dept</dc:creator>
  <dc:description/>
  <dc:language>en-US</dc:language>
  <cp:lastModifiedBy>Valued Acer Customer</cp:lastModifiedBy>
  <dcterms:modified xsi:type="dcterms:W3CDTF">2013-10-23T15:07:40Z</dcterms:modified>
  <cp:revision>52</cp:revision>
  <dc:subject/>
  <dc:title>Masuk dan Berkembanganya Islam ke Indonesia</dc:title>
</cp:coreProperties>
</file>