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6BD3-43CE-46BC-BDA6-3CD080E12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620C-7044-4A8B-8238-D22491F6A9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DF3EB-4D0E-4793-B1C4-FAF2DE0A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54B89-54B1-4F19-AAFD-766904BE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06679-E69F-4213-AA9D-DFEE3A09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FEDD8-8FE6-4FFA-BF35-3CBA7697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7D7D-64D6-4C38-891B-8A29AFDA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570F-94E7-41D8-A6DE-62E1D3B7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649C-1D14-444B-8494-462A091F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179B-3A4E-4003-B52A-106AFB8A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2EF1-D8E6-4918-84C9-FBC86F9C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92C0-B805-4D56-BDB0-D8ECE1BF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F819-4509-4F33-B075-E79B02D5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A6C8-AADF-4B04-89D4-DD294400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2F7A-78E5-41E6-BE02-97BE844B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AF24-0161-4F4F-BE37-67024AC1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957F-4C5F-482C-A342-F3D1F26D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F854-4B91-41B2-A042-AB3C7510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DA23-3F41-4702-98D9-089F13BD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F7136-0151-4FDD-81D5-125783B1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6AA88-EB91-4349-9196-524CED38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778D-AEF0-49C7-A328-E13C9C56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7B0B-9353-4D18-8BC9-9FABBDD4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486A-9FC0-4A06-896D-D7BD8EF9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D7F2-1AEB-42C7-B8BB-2991A69B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C6FA-0CB7-4042-A0BD-0892FDE6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3D6E-53A8-4BC1-8690-ECF6D4D83DE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E25F-0551-45E5-96E4-38086C3E294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../../DATA%20NUR%20ROKHMAN%201/MEDIA%20INDONESIA%20ABAD%2016-18%20duplikat/AKULTURASI/2.%20MASJID%20KHAS%20NUSANTARA.ppt" TargetMode="External"/><Relationship Id="rId2" Type="http://schemas.openxmlformats.org/officeDocument/2006/relationships/hyperlink" Target="file:///akulturasi%20bangunan%20makam.ppt" TargetMode="External"/><Relationship Id="rId3" Type="http://schemas.openxmlformats.org/officeDocument/2006/relationships/hyperlink" Target="file:///../../../DATA%20NUR%20ROKHMAN%201/MEDIA%20INDONESIA%20ABAD%2016-18%20duplikat/AKULTURASI/3.%20STILIR%20DAN%20UKIR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Akulturasi Budaya Lokal, Hindu Buddha, Islam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ngunan (Masjid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kam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i ukir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isi Selamatan Kemat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isi Buday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8:27:03Z</dcterms:created>
  <dc:creator>History Education Dept</dc:creator>
  <dc:description/>
  <dc:language>en-US</dc:language>
  <cp:lastModifiedBy>Valued Acer Customer</cp:lastModifiedBy>
  <dcterms:modified xsi:type="dcterms:W3CDTF">2013-10-23T15:05:01Z</dcterms:modified>
  <cp:revision>51</cp:revision>
  <dc:subject/>
  <dc:title>Masuk dan Berkembanganya Islam ke Indonesia</dc:title>
</cp:coreProperties>
</file>