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6B81-FE0A-45F8-AD3C-36389C840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A099-22AB-4E2A-868F-0A6DBAC7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3282-D94E-4F18-B880-52B50C725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B78-93A3-4929-8EFF-96348555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58A-7EE4-493E-8081-40B8D850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BAD-6416-4C1A-9400-B366FB7A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204-0404-4936-B4DA-B1B008A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AA95-A95E-4DD0-9E5E-208A3CD2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8C0-37A5-4E7D-92E9-562EB7A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42F-4662-40D4-BF7A-60169B8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AD20-A5F7-44EB-BA65-72281EA2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DFD5-06C0-4BF2-8148-23115E9D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7455-BC10-4CC4-99DE-AB60F56D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F95B-0A9B-418F-85B7-8B28CBA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ED6-7EA1-4971-ADB1-E410328D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E4BF-46E0-4B05-A06C-A716BE2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3253-FEC5-40C1-8C2E-A668BF7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08DD-5C81-4266-B8E7-9133B560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D37C-D0C1-432A-8B0D-AFD54580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AB62-6B08-4DEF-9043-E58466BE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065C-EF3E-46E7-B820-ED6DF611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F3B7-054B-49AD-BCA0-BE3B76E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ED64-8FD6-4505-957B-6256BABE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C100-77D1-49F2-B306-8E0928A6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B4DA-BF4D-498C-B4FD-E98AE9E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A7F-4371-4E46-B583-B088ECC0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4CC26-6DA8-4116-A54D-3D63196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BDC2-8928-4078-8A9D-63D07F5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CA26-3C89-49E1-A509-B37DEFB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9EDC-2FB3-4387-96D1-F28D421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80FA-51FA-46BF-81C3-3342407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8AB0-3E1F-4A8B-A029-AEC0F7FA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78F2-F022-40B6-8F54-7F223EF9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5379-9996-4122-8E3D-F3010464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1CE4-BFDB-49C7-A5C6-B7BA8297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58E1-48BE-4395-B00B-4F5C1FF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737-9744-435E-A9D1-A8ED0A8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A95F-B772-428B-969F-542D0588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E81C-7076-4B8B-B4A3-83AEF5D9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8A60-D520-4C8B-8B95-A1F9E64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910C4-1DFC-41E4-8A5A-7BA8777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A000-C8AC-487D-B242-FFD5D2D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BC06-9BE7-487B-A925-E340BBF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8561-3150-42FA-97F2-4717B612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0731-09C3-400C-BB2D-B4C92042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1911-35FB-4589-8072-0378663C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40D0-7588-4233-9D50-7815A4E5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A69-B297-4069-BCF1-29021BA3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5EB9A-0DA7-43BD-997F-85E7B5C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31E06-0D76-4C78-969B-C9E34F31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955E-FB4D-4274-9758-03883CE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8A5F-E12B-41A7-9C32-C76B808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40B02-C4F8-4CF0-BE60-B2A1285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4D46E-DB46-4462-8532-2D47554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B268-0D14-4CC0-B43D-C5045694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22E2-B257-4862-B5E0-01AC4F9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C89E-9373-45E1-9AF6-2326FA51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9AE70-42CD-4420-8A2D-A65D6DE9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DB5-FA86-4E1D-BF47-87060125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DFF1-4B75-4EE7-AB94-4F139769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FD68-0554-4EFC-A7DD-31D7DF79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9F70-553F-4D3F-B64E-F330A2F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C19C-F607-40E8-9DFC-29698EF8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3F53-2720-400A-92D3-BEE118C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9A519-AC72-4183-8562-11D35187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6B70-6B58-4C0A-8733-F99640D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9B190-214D-4677-823B-A31D7A5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C6266-9E84-49E8-A8EC-E11310C0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E758-F59A-4F01-9AE7-B93E37C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5D5-8DDD-4777-A9B0-3B7C4B1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0F05-1298-4F34-87A0-FB0029E3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5DF36-C6B6-47D3-8B62-33B289C9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48F1-AA15-4593-AE65-F0D9C124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F45A-A733-4841-A899-80EC14C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1A66-5531-420C-845A-5B86095C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3E8D-95C2-4696-9A42-FE7CA9F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76780-1C2B-4D1A-8D5A-AECE9DEA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653C4-B195-4CA3-82B3-FA978F73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5CE9-CBD3-4F9F-A481-EA544F3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F9A3-1AD6-43E6-8C33-FEABC9D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448-C414-4187-9780-FEBC06A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B293-CAB4-4F7B-BA1F-8470191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C41C-3990-4DED-906F-38EF662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00C1-A1CD-4AE9-8181-D84537B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5A2F-1D00-4E6F-A369-89C218EE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87FE-74DD-45ED-991F-128FB290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55DE-2132-4ACA-9FFE-488B7E3B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2D060-633E-4C30-931A-5595E536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9AAD9-BE93-4C04-BE19-E9C2C79C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9F1AD-FD2A-478B-9995-01E5A404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33161-EDD6-4C18-998B-825FA8FD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FD7-9429-4423-9555-042F032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01179-96AC-485F-A1EA-8BEDB4BA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14C40-4CF6-4708-9BCD-EA39224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A49C-9D5D-4265-AF95-96178FD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DACE-2A0D-4793-9CBD-B6AFDD6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064C9-C490-4E60-B4A9-9546891C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AE174-9E85-4EFB-8B56-361CD1E4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4DC6-AA56-4BFD-AA29-0F40217E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CCB-C4F9-48F0-A01B-9F3F035ED0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63C4-F82B-4A99-AE8B-D6DA610EB7C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8158-9A8B-4022-B5E2-8034F2D3ED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CAEB-F474-400F-B859-DD4BE63262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F868-095D-449C-A6FD-A994B6C3F7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30E5-9D26-4347-A296-0E0AE66B92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5A4-5650-4666-B7BA-FEA2EBE25E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A6B-3F2A-4992-805B-58CEB43BDE4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ori Brahma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ori Ksat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oriWaisy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ori Arus Balik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Kutai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rumanegar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Kalingga (Holing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atara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Sriwijay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ajapahi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3:12:45Z</dcterms:created>
  <dc:creator>Valued Acer Customer</dc:creator>
  <dc:description/>
  <dc:language>en-US</dc:language>
  <cp:lastModifiedBy>Valued Acer Customer</cp:lastModifiedBy>
  <dcterms:modified xsi:type="dcterms:W3CDTF">2013-10-23T13:16:26Z</dcterms:modified>
  <cp:revision>1</cp:revision>
  <dc:subject/>
  <dc:title>MASUKNYA HINDU BUDHHA</dc:title>
</cp:coreProperties>
</file>