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B1D-F3C2-4062-B4F3-24C0E3F6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BBB-BB66-4A8B-9AC9-A569AC22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D87A-4C09-43A1-B0B9-05EE7D20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2C0-E222-411F-9370-7F825ABBB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2F66-CA6D-4645-AB1F-BFE0CBB3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DB7-67BD-4B48-9109-D3701CA3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09D-A684-4850-BC31-7181F90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A9A-F853-4E9D-9122-333A4556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187-472E-42A9-8BFD-B3B1685B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F091-1271-452C-B9C4-5523E8DE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49E9-163E-4534-A8BC-6D11196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5F1E-31A1-4FD7-AE7D-7F115491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D97A-8446-42F0-9909-74417E8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377-CF29-4688-8497-F173A5F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B35-000D-4CA4-B5CC-C7A0D8DD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403-93CD-4C23-B438-00AEEDF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E64-526A-4196-818B-B226CDA7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0ACE-0F88-4858-87B1-14F8DBC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3B24-9BF9-4DBB-BF55-95FFF18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085C-1024-4B18-B531-5CE596E5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DAEE-6A41-42F2-AC29-7ACA1FDB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4B75-EBD6-4195-AB4C-BC1C2A86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C638-9B68-4CF3-8145-B566043D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1E4A-74FB-454F-AC6D-55DF880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9955-66C5-4695-BF74-2F35FBB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C086-0B92-4938-81A5-50420681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F1E5-833C-4311-A6FB-4C4BB60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FD0-FA2D-4DED-A392-17AA85D9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3E6E-1B1B-4664-ACF3-C34E931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94A0-8463-48FD-B31B-0B9277A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F0B4-0FFF-4DA9-A08F-4ABF38D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E95C-BF61-4FD3-8254-FEAB4534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E3A0-7CC8-4036-A4B2-047D36F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F7B4-0A68-483C-BF16-BDFCB24B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DB77-A21B-47B2-8667-2A4BF4FA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E4C9-CB83-473F-A8FB-33C867B8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8AB6-0456-4103-A917-2E46C02F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BDCE-AA18-489F-BBCF-4E378379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608-1DFF-4B5E-8880-9DA62F39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EC29-1C2A-4027-88DB-2C8BC232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74CE-8CA2-4E2E-814A-F1573E4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E66B-631D-4278-9194-EE76E30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C40A-3DE1-4333-B600-BAFA3EB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D0D8-B0D1-4A28-BD14-275C03A5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81BC-C00F-4D25-9F69-578512E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AC28-FBCE-49AB-90D6-EC17F7A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276A-4FFA-419E-9B2E-D2CEE01B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AFB4-7C83-4D93-8368-1DC9242C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B31E6-36D3-4026-ADA5-4FA0EE1A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383-D714-43C2-BA86-27E6FDDE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BFE70-06C5-4ECD-95A4-DB8EA51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1BA6F-5741-4B0C-8F85-49D306E4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298ED-06E4-42A5-B82C-9E5E3FB5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877D8-F2E6-41F2-ACAE-8D2C6A89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DB906-7DCC-4865-A3B5-644F5DB7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A745C-206C-42DB-8F28-47B978A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6AB8C-B706-4DFC-B179-8232522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5B7A7-EC85-42A6-8BC9-BF58558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DA95F-A954-48A1-AE6A-9F48EB1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86B04-8051-43F2-9764-96B5F2D5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E5A-94B2-4B55-AA00-817FDE0D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FF0AA-EECE-4AD9-80D6-37E9F4D7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B94-2CC8-4314-B143-515C1E7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23A-5D0E-4447-87B6-062055C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517-3F7F-4763-82B7-94083CC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C9DD-FD9B-4863-B7A8-38499729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9910-E40E-4DF3-B606-9A944C51CC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4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6D16-BC25-46E3-9847-65CB60EA80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199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203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204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205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206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8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22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2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A6D-E5E8-4720-A508-87F61B75AD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5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9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8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4D1-7AF0-4869-9AAF-A0CB6ADA64D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228600" y="457200"/>
            <a:ext cx="8610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SAR-DASAR PENELITIAN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MU SEJARAH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3" name="Picture 6" descr="j0212957"/>
          <p:cNvPicPr/>
          <p:nvPr/>
        </p:nvPicPr>
        <p:blipFill>
          <a:blip r:embed="rId2"/>
          <a:stretch/>
        </p:blipFill>
        <p:spPr>
          <a:xfrm>
            <a:off x="2030400" y="3886200"/>
            <a:ext cx="50688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0" y="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0" y="1295280"/>
            <a:ext cx="8153280" cy="121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0" y="2666880"/>
            <a:ext cx="807732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12"/>
          <p:cNvSpPr txBox="1"/>
          <p:nvPr/>
        </p:nvSpPr>
        <p:spPr>
          <a:xfrm>
            <a:off x="1523880" y="1371600"/>
            <a:ext cx="4038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. HEURISTI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WordArt 13"/>
          <p:cNvSpPr txBox="1"/>
          <p:nvPr/>
        </p:nvSpPr>
        <p:spPr>
          <a:xfrm>
            <a:off x="457200" y="2819520"/>
            <a:ext cx="33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VERIFIKASI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Oval 15"/>
          <p:cNvSpPr/>
          <p:nvPr/>
        </p:nvSpPr>
        <p:spPr>
          <a:xfrm>
            <a:off x="0" y="3962520"/>
            <a:ext cx="77724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1600200" y="419112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. INTERPRETAS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52280" y="5715000"/>
            <a:ext cx="38102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18"/>
          <p:cNvSpPr txBox="1"/>
          <p:nvPr/>
        </p:nvSpPr>
        <p:spPr>
          <a:xfrm>
            <a:off x="457200" y="5791320"/>
            <a:ext cx="34862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. HISTORIOGRAF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73" name="WordArt 19"/>
          <p:cNvSpPr txBox="1"/>
          <p:nvPr/>
        </p:nvSpPr>
        <p:spPr>
          <a:xfrm>
            <a:off x="152280" y="304920"/>
            <a:ext cx="7925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NULISAN KEMBALI PERISTIWA MASA LALU 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36"/>
          <p:cNvGrpSpPr/>
          <p:nvPr/>
        </p:nvGrpSpPr>
        <p:grpSpPr>
          <a:xfrm>
            <a:off x="457200" y="0"/>
            <a:ext cx="5028840" cy="914040"/>
            <a:chOff x="457200" y="0"/>
            <a:chExt cx="5028840" cy="914040"/>
          </a:xfrm>
        </p:grpSpPr>
        <p:sp>
          <p:nvSpPr>
            <p:cNvPr id="375" name="AutoShape 35"/>
            <p:cNvSpPr/>
            <p:nvPr/>
          </p:nvSpPr>
          <p:spPr>
            <a:xfrm>
              <a:off x="457200" y="0"/>
              <a:ext cx="5028840" cy="91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"/>
            <p:cNvSpPr/>
            <p:nvPr/>
          </p:nvSpPr>
          <p:spPr>
            <a:xfrm>
              <a:off x="542520" y="182520"/>
              <a:ext cx="48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UMBER SEJARA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Oval 6"/>
          <p:cNvSpPr/>
          <p:nvPr/>
        </p:nvSpPr>
        <p:spPr>
          <a:xfrm>
            <a:off x="228600" y="990720"/>
            <a:ext cx="220968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B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TULIS/DOKU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3048120" y="1066680"/>
            <a:ext cx="2133360" cy="15242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DA/ARTEF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0"/>
          <p:cNvSpPr/>
          <p:nvPr/>
        </p:nvSpPr>
        <p:spPr>
          <a:xfrm flipV="1">
            <a:off x="5867280" y="1066320"/>
            <a:ext cx="2667240" cy="1524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SUMBER LIS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2"/>
          <p:cNvGrpSpPr/>
          <p:nvPr/>
        </p:nvGrpSpPr>
        <p:grpSpPr>
          <a:xfrm>
            <a:off x="228600" y="3276720"/>
            <a:ext cx="6477120" cy="2549160"/>
            <a:chOff x="228600" y="3276720"/>
            <a:chExt cx="6477120" cy="2549160"/>
          </a:xfrm>
        </p:grpSpPr>
        <p:sp>
          <p:nvSpPr>
            <p:cNvPr id="381" name="Rectangle 30"/>
            <p:cNvSpPr/>
            <p:nvPr/>
          </p:nvSpPr>
          <p:spPr>
            <a:xfrm>
              <a:off x="228600" y="3276720"/>
              <a:ext cx="6477120" cy="2549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304920" y="4081320"/>
              <a:ext cx="198108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RDASARKAN URUTAN PENYAMPAIAN, SUMBER SEJ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7"/>
            <p:cNvSpPr/>
            <p:nvPr/>
          </p:nvSpPr>
          <p:spPr>
            <a:xfrm flipV="1">
              <a:off x="2286000" y="3813120"/>
              <a:ext cx="45720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8"/>
            <p:cNvSpPr/>
            <p:nvPr/>
          </p:nvSpPr>
          <p:spPr>
            <a:xfrm>
              <a:off x="2286000" y="434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9"/>
            <p:cNvSpPr/>
            <p:nvPr/>
          </p:nvSpPr>
          <p:spPr>
            <a:xfrm>
              <a:off x="2286000" y="4349520"/>
              <a:ext cx="45720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1"/>
            <p:cNvSpPr/>
            <p:nvPr/>
          </p:nvSpPr>
          <p:spPr>
            <a:xfrm>
              <a:off x="2819520" y="3411000"/>
              <a:ext cx="30481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MBER PRIM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2"/>
            <p:cNvSpPr/>
            <p:nvPr/>
          </p:nvSpPr>
          <p:spPr>
            <a:xfrm>
              <a:off x="2819520" y="3947040"/>
              <a:ext cx="380988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mber sekunder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2819520" y="4483800"/>
              <a:ext cx="327672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2819520" y="5020920"/>
              <a:ext cx="36576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7"/>
          <p:cNvSpPr/>
          <p:nvPr/>
        </p:nvSpPr>
        <p:spPr>
          <a:xfrm>
            <a:off x="2133720" y="2362320"/>
            <a:ext cx="1066680" cy="5331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5029200" y="2286000"/>
            <a:ext cx="1066680" cy="5335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7543800" y="25909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8"/>
          <p:cNvSpPr/>
          <p:nvPr/>
        </p:nvSpPr>
        <p:spPr>
          <a:xfrm>
            <a:off x="6858000" y="3048120"/>
            <a:ext cx="190512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SUMB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KA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9"/>
          <p:cNvSpPr/>
          <p:nvPr/>
        </p:nvSpPr>
        <p:spPr>
          <a:xfrm>
            <a:off x="2895480" y="49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umber ters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4"/>
          <p:cNvSpPr txBox="1"/>
          <p:nvPr/>
        </p:nvSpPr>
        <p:spPr>
          <a:xfrm>
            <a:off x="228600" y="1219320"/>
            <a:ext cx="7162920" cy="357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r Attentio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4419720" y="58672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BYE !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7" name="Picture 6" descr="j0212957"/>
          <p:cNvPicPr/>
          <p:nvPr/>
        </p:nvPicPr>
        <p:blipFill>
          <a:blip r:embed="rId1"/>
          <a:stretch/>
        </p:blipFill>
        <p:spPr>
          <a:xfrm>
            <a:off x="2438280" y="5410080"/>
            <a:ext cx="183060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4:03:04Z</dcterms:created>
  <dc:creator>back2goods</dc:creator>
  <dc:description/>
  <dc:language>en-US</dc:language>
  <cp:lastModifiedBy>Valued Acer Customer</cp:lastModifiedBy>
  <dcterms:modified xsi:type="dcterms:W3CDTF">2013-10-23T14:00:51Z</dcterms:modified>
  <cp:revision>127</cp:revision>
  <dc:subject/>
  <dc:title>Slide 1</dc:title>
</cp:coreProperties>
</file>