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70B6-413B-480F-8313-B8C40FE2C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1B20-0363-47C7-96EA-EE80337D97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9873-BEC7-4EA0-8B20-8C07F234AF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E9DC-F136-491A-9E3E-1BC422A4EA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891E-8351-4E55-93F3-925AFA6323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D0D2-90BA-403C-BD56-A945D34472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00AD-7E8F-4173-AA79-79FC5D13FE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DF80-23AE-498F-AD95-59F33124BD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9422-6CD4-466F-8D6F-51A94DEF38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FD5B-2833-496E-9C83-A024FF0731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78DB-16B6-4322-8044-2D7952E6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5040-9B94-4279-BE48-35F4CC83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341-6F28-441B-ABBC-3198B4E7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AC04-8FD2-4498-83B9-1F110260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9CD4C-15BE-4BA0-8520-5D1DA923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39CAB-C967-462F-8528-8A0E8B9A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3E2CC-55B4-4F8E-B691-E75BDE9D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84A0E-66A2-4130-B564-040F469F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C45BD-4ECB-48B5-A1A1-9792279C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B1756-CAC6-4AF9-B7A4-81294186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A3532-22AA-4174-9B9C-052A67E9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F650-6ABE-4EE4-9812-5B59A35E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C595B-3F2E-4448-A777-EBF8133C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1B095-FE0A-485D-9797-65AF938E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68C75-535D-4D88-B53B-FE5C1261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D7691-9754-44F7-A48E-B1E85C8B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B36CD-9DA5-4FA2-BE88-1E4A5E13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E89E-3152-44B6-8D25-7215A009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F890-B3B8-47B0-8E75-C788BEB5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7D39-8969-46FA-BB36-B96707DD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3036-E9DF-4564-8EE0-1A6540EE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03AA-CD59-4B87-B5EC-C88E38D6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7A2B-9D4D-4F62-B806-07A613F7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8B08-9BFC-48ED-B429-E690D524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B207-008A-400B-AE52-08BED2A1CB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7381-2C6C-4C01-8949-E43F82994B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285840" y="2571840"/>
            <a:ext cx="7603920" cy="92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PAKAH SEJARAH ITU?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ara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timolog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rasal dari bahasa Arab,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yajaratu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oh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jarah dalam bahasa Inggris 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HISTOR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yang berasal dari Bahasa Yunani 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HISTORI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yang berarti </a:t>
            </a:r>
            <a:r>
              <a:rPr b="1" i="1" lang="en-US" sz="4000" spc="-1" strike="noStrike">
                <a:solidFill>
                  <a:srgbClr val="ffff66"/>
                </a:solidFill>
                <a:latin typeface="Arial"/>
              </a:rPr>
              <a:t>informasi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au </a:t>
            </a:r>
            <a:r>
              <a:rPr b="1" i="1" lang="en-US" sz="4000" spc="-1" strike="noStrike">
                <a:solidFill>
                  <a:srgbClr val="ffff66"/>
                </a:solidFill>
                <a:latin typeface="Arial"/>
              </a:rPr>
              <a:t>pencari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539640" y="33336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EJARAH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R. Moh A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lam bukunya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engantar Sejarah Indones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Moh Ali memberikan definisi sejarah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seluruhan perubahan, kejadian-kejadian, peristiwa, kenyataan yang benar-benar terjadi di sekitar k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ita tentang perubahan-perubahan i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mu yang menyelidiki tentang perubahan-perubahan yang benar-benar terjadi pada masa lamp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Dari uraian di atas 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dapat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disimpulkan bahwa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jarah adalah ilmu yang mempelajari segala peristiwa atau kejadian pada masa lampau dalam kehidupan umat manus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5"/>
          <p:cNvSpPr txBox="1"/>
          <p:nvPr/>
        </p:nvSpPr>
        <p:spPr>
          <a:xfrm>
            <a:off x="468360" y="404640"/>
            <a:ext cx="3238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JARAH SEBAGAI: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050920" y="1197000"/>
            <a:ext cx="649440" cy="719280"/>
          </a:xfrm>
          <a:prstGeom prst="downArrow">
            <a:avLst>
              <a:gd name="adj1" fmla="val 50000"/>
              <a:gd name="adj2" fmla="val 27688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WordArt 9"/>
          <p:cNvSpPr txBox="1"/>
          <p:nvPr/>
        </p:nvSpPr>
        <p:spPr>
          <a:xfrm>
            <a:off x="1187280" y="1989000"/>
            <a:ext cx="1971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ERISTIW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39" name="Picture 10" descr="sukarno55"/>
          <p:cNvPicPr/>
          <p:nvPr/>
        </p:nvPicPr>
        <p:blipFill>
          <a:blip r:embed="rId3"/>
          <a:stretch/>
        </p:blipFill>
        <p:spPr>
          <a:xfrm>
            <a:off x="4572000" y="404640"/>
            <a:ext cx="3456000" cy="261468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11"/>
          <p:cNvSpPr/>
          <p:nvPr/>
        </p:nvSpPr>
        <p:spPr>
          <a:xfrm>
            <a:off x="1908000" y="306864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WordArt 12"/>
          <p:cNvSpPr txBox="1"/>
          <p:nvPr/>
        </p:nvSpPr>
        <p:spPr>
          <a:xfrm>
            <a:off x="1619280" y="3789360"/>
            <a:ext cx="11048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KISAH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979640" y="4797360"/>
            <a:ext cx="431640" cy="792360"/>
          </a:xfrm>
          <a:custGeom>
            <a:avLst/>
            <a:gdLst>
              <a:gd name="textAreaLeft" fmla="*/ 57600 w 431640"/>
              <a:gd name="textAreaRight" fmla="*/ 374040 w 43164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WordArt 14"/>
          <p:cNvSpPr txBox="1"/>
          <p:nvPr/>
        </p:nvSpPr>
        <p:spPr>
          <a:xfrm>
            <a:off x="2987640" y="4941720"/>
            <a:ext cx="8762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LMU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4211640" y="5300640"/>
            <a:ext cx="865080" cy="504720"/>
          </a:xfrm>
          <a:prstGeom prst="rightArrow">
            <a:avLst>
              <a:gd name="adj1" fmla="val 50000"/>
              <a:gd name="adj2" fmla="val 4285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WordArt 16"/>
          <p:cNvSpPr txBox="1"/>
          <p:nvPr/>
        </p:nvSpPr>
        <p:spPr>
          <a:xfrm>
            <a:off x="5364000" y="5516640"/>
            <a:ext cx="8096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NI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6" name="Picture 17" descr="sukarno49"/>
          <p:cNvPicPr/>
          <p:nvPr/>
        </p:nvPicPr>
        <p:blipFill>
          <a:blip r:embed="rId4"/>
          <a:stretch/>
        </p:blipFill>
        <p:spPr>
          <a:xfrm>
            <a:off x="4643280" y="3213000"/>
            <a:ext cx="33847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jarah merupaka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rangkaian peristiw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lm kehidupan yang tersusun secara berurutan. Bersifat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nik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karena hanya terjadi sekali dan tidak terulang persis sama, abadi, tetap menjadi kenangan dan penting, karena dapat menjadi moment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WordArt 3"/>
          <p:cNvSpPr txBox="1"/>
          <p:nvPr/>
        </p:nvSpPr>
        <p:spPr>
          <a:xfrm>
            <a:off x="826920" y="404640"/>
            <a:ext cx="7274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. SEJARAH SEBAGAI PERISTIWA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jarah merupakan sebuah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arasi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ang disusun berdasarkan ingatan, kesan, atau tafsiran manusia tentang kejadian atau peristiwa yang terjadi pada waktu yang lampa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WordArt 3"/>
          <p:cNvSpPr txBox="1"/>
          <p:nvPr/>
        </p:nvSpPr>
        <p:spPr>
          <a:xfrm>
            <a:off x="826920" y="404640"/>
            <a:ext cx="7274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. SEJARAH SEBAGAI KISAH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Sejarah memiliki sejumlah masalah, bukti dan fakta, yang perlu pembuktian secara ilmiah, melalui serangkaian penelitian dan hipotesa, dengan menggunakan metode penelitian terten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WordArt 3"/>
          <p:cNvSpPr txBox="1"/>
          <p:nvPr/>
        </p:nvSpPr>
        <p:spPr>
          <a:xfrm>
            <a:off x="826920" y="404640"/>
            <a:ext cx="7274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.  SEJARAH SEBAGAI ILMU</a:t>
            </a:r>
            <a:endParaRPr b="0" lang="en-US" sz="32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Karena banyaknya fakta yang terkumpul maka dibutuhkan daya imajinasi dan kreativitas yang tinggi bagi seorang sejarawan untuk menghubungkan peristiwa satu dengan peristiwa lainy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WordArt 3"/>
          <p:cNvSpPr txBox="1"/>
          <p:nvPr/>
        </p:nvSpPr>
        <p:spPr>
          <a:xfrm>
            <a:off x="826920" y="404640"/>
            <a:ext cx="7274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. SEJARAH SEBAGAI SENI</a:t>
            </a:r>
            <a:endParaRPr b="0" lang="en-US" sz="32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14:54:28Z</dcterms:created>
  <dc:creator>SUCAHYO WIBOWO</dc:creator>
  <dc:description/>
  <dc:language>en-US</dc:language>
  <cp:lastModifiedBy>Valued Acer Customer</cp:lastModifiedBy>
  <dcterms:modified xsi:type="dcterms:W3CDTF">2013-10-23T14:02:12Z</dcterms:modified>
  <cp:revision>11</cp:revision>
  <dc:subject/>
  <dc:title>Slide 1</dc:title>
</cp:coreProperties>
</file>