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applause.wav" ContentType="audio/x-wav"/>
  <Override PartName="/ppt/media/laser.wav" ContentType="audio/x-wav"/>
  <Override PartName="/ppt/media/breeze.wav" ContentType="audio/x-wav"/>
  <Override PartName="/ppt/media/camera.wav" ContentType="audio/x-wav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1A07-ACD2-46AD-84A4-B34BE1438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1348-8A4E-42CB-AA9C-F760ED89A9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108-7809-4E81-80BB-0CFD2255E6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452E-3AD2-40EB-8666-888F5FDF9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C1FA-0416-4FA5-8E6E-F0B3FF7848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945D-3194-47B3-9636-2F60467E39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6DCC-460E-4697-9C5D-0833046984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E539-B198-4F08-A850-3051A307FC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3A5-59D8-4340-B916-B3186803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45F-14B3-4E96-92C7-1E5CD6A0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DEA-2AA4-483C-9250-DFCF4155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860-46AD-4072-BC2B-BB063FA2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C85C-203E-4418-B604-25F10F7D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4E47-2AEF-4F62-8B4E-A77E131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D159-9EE8-4A0C-BAA6-F6FA9FCF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C077-2E6D-4BC7-972E-2075FACF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4B1F-9DF3-47FB-BD05-5AA67D6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5E93-6816-4792-ABA2-EB45456D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99C9-1186-487F-BCFA-38EA9921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0C5-36C2-4EC0-9511-B5B24729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1D57-0584-43E1-9109-312C0BE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C05C-31DA-4FCB-92B3-76444620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20F5-0C78-4B46-A0B9-5085EE62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9A5B-6B9C-4FC6-80D0-44000EC1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41E3-F29A-4BD6-B4B4-59014499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C0E01-3CE1-4562-AFEF-09FC2814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5E738-2440-4F15-A159-B3B45C2E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D3706-81BC-462E-BE19-9A3E7C4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51D24-C607-42E4-98C2-FACB7C84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77C75-5931-4A66-AFF7-873FF0D8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AC6-CA3E-4B51-890E-46EAC3D0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39857-83C0-449A-9C6D-8B28ACA4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9999C-5A3E-4B84-931B-C2B3E88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857C8-0302-4064-B2B4-DED7A1C3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9E7D8-0993-4708-9983-10060E59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E1DBA-BF52-4D30-B0ED-2F0FDAE8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0B3A2-B9F3-4B74-B3B2-3A8D5223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27DF4-EC24-46B5-B3DF-7D6F2FE4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08D2A-66C8-4A4B-8316-79981595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F901A-B32C-430F-9B08-8017C169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EB6ED-94ED-4720-95DA-6F7DF489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19E-5E27-4780-B439-36C0A6C5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03FFE-ECEC-417B-9A33-398A5AA9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93F14-4230-4EC6-9D61-FC4440FD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6FB04-C152-4900-820D-B0BD6065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7087E-6470-4D34-8427-7A397CB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9B278-2877-4F38-8091-FD744F5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D1B32-59BF-462F-BF6C-E931C9CC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5926E-B524-45A8-A8BB-B55ABEF5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E87BE-97EA-4F09-B5F1-7CEA6B8C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AC85B-3460-40DF-956A-30B259AE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67F2-9BC4-4954-B2BE-32B802B2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7C7-28AE-46CB-82A3-ADAFAA2E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C6B32-4F61-4E31-B65B-89180582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A88CE-58FC-437F-A371-8FCBC97D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0211-E259-4243-93F0-23837CA4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02EF-8069-4655-BA84-1197DAC6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5805-44EE-4F3E-8C81-1A86C1FC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266FE-7F37-403A-B6CE-5A2371A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0B072-4C57-45CC-B6C5-C6908B75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19ABC-7B67-48B3-A184-C3AA0DD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EBF6-07FC-4851-BD61-5654636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CD16-BF9C-4C39-BCC7-95FDD35E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11C-D7BB-40BF-AEFB-1EDF56D3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1C5FA-1626-4F25-AF07-FAC17ED8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8DA0-50C4-4AA4-A55C-762B875C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AB512-1096-40A7-B954-2D613055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4B70-84D3-4C76-88C4-34812F28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B9705-1D92-4A26-A259-70CE43AB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13BF3-18D3-49AD-8597-DA469E5F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823FC-1905-42A9-88F3-92E2874D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4C53-BDA5-4EE7-9EB6-DE09516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068A4-6B10-4535-8207-6591D3D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3784-F549-4DC4-A5E5-D671719B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A7A-C066-4019-9DCB-FE8F1ED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C48D8-5684-4C0E-9A6A-AE686AD5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1931-6501-47DD-A809-0B41564D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93A21-51A9-4F84-8C34-960C139F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EF6-DBFD-4C19-9C3E-E683948A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DF2-E75B-419E-A2EC-22FE18B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3902-23CC-4DEE-95E1-8F7EEA14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6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7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8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8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8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8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2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2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2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4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5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5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6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6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6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6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7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ABF1-8901-4991-8EBE-908BF6B1BD1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7A5C-5C45-4091-A2B5-8E9199A602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1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05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AB4F-85C0-4501-9962-330590B4B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62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63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66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1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2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5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8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4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7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0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93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6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9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2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5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8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4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7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23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6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2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4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7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0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43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6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9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2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5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8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1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4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7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9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70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71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480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0523-9F6E-430D-98A0-10D6ECA84AD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3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203E-FDD2-40DF-83C0-629D98F67B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PERPADUAN TRADISI LOKAL,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HINDU-BUDHA DI INDONESIA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324000" y="1628640"/>
            <a:ext cx="504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SUR-UNSUR PERPADU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4"/>
          <p:cNvSpPr/>
          <p:nvPr/>
        </p:nvSpPr>
        <p:spPr>
          <a:xfrm>
            <a:off x="147636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5"/>
          <p:cNvSpPr/>
          <p:nvPr/>
        </p:nvSpPr>
        <p:spPr>
          <a:xfrm>
            <a:off x="5076720" y="1916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 flipV="1">
            <a:off x="5435640" y="16956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sur lokal, Hindu-Budha --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lam nantin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5364000" y="1628640"/>
            <a:ext cx="29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1403280" y="2997360"/>
            <a:ext cx="65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ngsa Indonesia sebenarnya sudah mempunyai unsur-unsur budaya asli, selain mengenal kepercayaan micro dan macro cosmos, yang merupakan keyakinan adanya supranatural atas kehidupandi bu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10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10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UNSUR-UNSUR BUDAYA ASLI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MENURUT JLA.BRAND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KEPANDAIAN BERS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KEMAMPUAN DALAM PELAYA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MENGENAL PRINSIP DASAR PERTUNJUK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Y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SENI GAME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MEMBAT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MENGERJAKAN BARANG DARI LOG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MENGGUNAKAN ATURAN METR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MENGENAL ALAT TUKAR LOG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SISTEM ASTRONOMI (PERBINTANG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SUSUNAN MASYARAKAT YANG TERAT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1042920" y="595008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laser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64396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ANIMISME DAN DINAMISM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56760" y="1143000"/>
            <a:ext cx="8572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 Black"/>
              </a:rPr>
              <a:t>ANIMISME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DALAH </a:t>
            </a:r>
            <a:r>
              <a:rPr b="0" lang="en-US" sz="1800" spc="-1" strike="noStrike">
                <a:solidFill>
                  <a:srgbClr val="ffe103"/>
                </a:solidFill>
                <a:latin typeface="Arial Black"/>
              </a:rPr>
              <a:t>KEPERCAYAAN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TERHADAP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OH-ROH HALUS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. LELUHUR MERUPAKAN AGENDA UTAMA BAGI KETURUNANYA UNTUK SELALU MENGHORMATINYA, DENGAN DOA-DOA TERTENTU ATAU MEMELIHARA MAKA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 Black"/>
              </a:rPr>
              <a:t>DINAMISME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DALAH KEPERCAYAAN TERHADAP BENDA-BENDA YANG DIANGGAP MEMPUNYAI KEKUATAN GAIB.DINAMISME INIPUN TELAH MENGALAMI PERPADUAN BUDAYA LOKAL DENGAN HINDU-BUDHA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TOH: KERATON DIANGGAP MEMPUNYAI KEKUATAN LEBIH BILA DIISI DENGAN BENDA-BENDA PUSAKA (MATARAM:TOMBAK KYAI PLERET, KERIS SETAN KOBER DSB.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6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NGARUH BUDAYA HINDU-BUDHA DALAM MEMERAPA ASPEK KEHIDUPAN DI INDONESIA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1. 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istem Pemerintahan: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Sebelum terpengaruh Hindu-Budha, sistem pemerintahan di Indonesia hanya dipegang oleh Kepala Suku, dipilih dg prinsip primus interpares, setelah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nya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mengenal apa yang disebut kerajaan dan diperintah oleh seorang r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rchitectur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nyak bangunan can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adopsi bentu-bentuk bangunan da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a (especially  temples, statue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rt/Literatu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ndu =&g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arya sastra (Arjunawiwah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haratayud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uddha =&g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ku Sang Hyang Kamahyani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u"/>
    <p:sndAc>
      <p:stSnd>
        <p:snd r:embed="rId1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4"/>
          <p:cNvSpPr/>
          <p:nvPr/>
        </p:nvSpPr>
        <p:spPr>
          <a:xfrm>
            <a:off x="0" y="189000"/>
            <a:ext cx="84247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. Mulai mengetahui bahasa 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uruf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ansekerta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dan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Pallawa.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6. Sosial-Budaya: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induis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uddhism besar pengaruhny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rkait dengan upacara-upaca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rtentu seperti sesajen, s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ndi, disamping pengaruh dal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syarakat dengan terbentuk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rata sos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1619280" y="2205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6" descr="44s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622" name="WordArt 7"/>
          <p:cNvSpPr txBox="1"/>
          <p:nvPr/>
        </p:nvSpPr>
        <p:spPr>
          <a:xfrm>
            <a:off x="2843280" y="2924280"/>
            <a:ext cx="4157640" cy="12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O O D   L U C K 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remove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49907 L -0.00781 -0.54602 E">
                                      <p:cBhvr>
                                        <p:cTn id="54" dur="5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0:33:30Z</dcterms:created>
  <dc:creator>Sejarah</dc:creator>
  <dc:description/>
  <dc:language>en-US</dc:language>
  <cp:lastModifiedBy>Valued Acer Customer</cp:lastModifiedBy>
  <dcterms:modified xsi:type="dcterms:W3CDTF">2013-10-23T13:12:12Z</dcterms:modified>
  <cp:revision>114</cp:revision>
  <dc:subject/>
  <dc:title>Slide 1</dc:title>
</cp:coreProperties>
</file>