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9612-5F9C-4231-B1BD-BD0573D5E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E3D1-8E11-4567-A702-FC4493444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964F-993E-4AA6-80EB-F31F4F2D1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3567-3BEA-4288-8CC8-9669B29D26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6DDD-0CBD-42D0-9A40-F87D29C1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EE32-6364-4961-99BC-1A7D2A5A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A8D7-D694-4848-8564-C57117EF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DDC7-98E8-4DF2-B077-8354A909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F5FE-34AD-4A5A-89E3-776794B2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FAD4-85A5-4548-956E-42CE38E1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F099-1F21-450F-B958-A8A0853B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DCC2-5495-4C3B-BDE3-FB5AA4F7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64F3-F572-4328-A032-9B1F42A4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F96B-B143-456E-8A63-30DB0E21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5957-9078-49E6-9A8F-6EF02DE9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547C-58B0-40D9-A795-859A903E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ED2B-9489-48E0-94F1-A7214F90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BC46-634C-4348-984F-91D82814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B154-EA12-4BBA-815D-8F7C7FA1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0FD7-E70E-4D3A-8DE1-6A65AA13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4C4C-D67E-49CA-B9D9-BBE43E42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55FE3-8028-47F2-BAAF-CB28E1C5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8B041-303A-437C-8505-2009B853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78B7B-82AC-4A51-BD4C-7ADC6CC6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E489C-4C07-4D6E-8702-039A899E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F678B-E2D1-4F4F-9DFD-D24D8E4E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B020-D92A-4FC1-BC3F-04017E73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4B680-548F-4041-97C3-91C07847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6C1C2-BFC2-4CB9-B742-AF521F97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3630F-7FCD-4706-9C88-3BBC7F51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2A479-3236-446B-A381-74FF890D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84923-8C5D-4A60-9278-6FD3A9F3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0EE6D-5780-4991-8B4A-5E6B2998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DF489-A9A7-44C0-84AC-765082DE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17061-C003-4A43-AB0B-17114BC4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929E3-A0F2-4D36-88FB-814284DB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010BB-D1B5-4715-9E40-8D7C0368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588E-A30A-4D01-A1AD-B31E8831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F027D-8AC3-49F9-AC59-D98321B8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AFA70-FE57-4889-A62B-7F3D47A0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BE68A-29FC-49CC-9865-97619873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9C2B4-3A63-4A80-AB77-9CDC23F0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E4DFC-75DC-4020-AEB2-E8668164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8DFC7-06B8-47E2-8176-9FB930E2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68342-DE43-443C-89BA-866F65BE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9D476-98BA-4DE7-831C-099456AB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099EF-06D6-4B04-BBBF-2F6F199B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41CA-EA1D-4A64-9B12-A0400372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DEEC-1889-4A72-9C40-61B66579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347-3596-401B-B0E9-80EEB65F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B843-5864-4AF6-B8AF-C537AB63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9F95-F8DB-4706-9AA8-C9E197B2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4F0E-2C37-46AD-9389-F463A9F72DF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5EFE-3C62-45DD-8A7C-AE279F59E15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7216-E220-4D9C-8942-56CF0B9540F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9D74-30C8-4FCB-8C21-AD8E5C4D06F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a Aksar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lum mengenal tulis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Calibri"/>
              </a:rPr>
              <a:t>Manusia Purba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Lihat manusia Purba .&gt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Kita berasal dari Kera ?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(samakah manusia purba dengan manusia modern (</a:t>
            </a:r>
            <a:r>
              <a:rPr b="1" i="1" lang="en-US" sz="2800" spc="-1" strike="noStrike">
                <a:solidFill>
                  <a:srgbClr val="ff0000"/>
                </a:solidFill>
                <a:latin typeface="Constantia"/>
              </a:rPr>
              <a:t>homo sapien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embabakan jaman Pra Aksar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Jaman Batu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tu Tua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Paleolitikum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kehidupan: (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food gathering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berburu dan meramu). Nomade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rkakas ; kasar/blm diupam .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tu Tengah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mezolitikum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Revolusi (mulai becocok tanam/f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ood producing,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netap)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rkakas agak lebih halu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tu Muda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neoliltikum)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rkakas lebih halus/diup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tu Besar/Megalitikum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bangunan megalitik .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Jaman Loga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3:16:46Z</dcterms:created>
  <dc:creator>Valued Acer Customer</dc:creator>
  <dc:description/>
  <dc:language>en-US</dc:language>
  <cp:lastModifiedBy>Valued Acer Customer</cp:lastModifiedBy>
  <dcterms:modified xsi:type="dcterms:W3CDTF">2013-10-23T14:28:33Z</dcterms:modified>
  <cp:revision>6</cp:revision>
  <dc:subject/>
  <dc:title>Pra Aksara</dc:title>
</cp:coreProperties>
</file>