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1A0-0666-4CDF-886C-85AED2048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884E-7667-494B-AD2C-758912344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76D-6B0B-4EBE-864F-38F2F9BD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377-6338-4666-AD4D-B738DC3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B89-5E5B-44F4-8D89-4BFA0083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726-93F0-46BF-8ED6-0AEAE8EE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C59-307C-4B06-A50C-C65D17F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61E-DC07-4768-AE03-B00D40A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008-FA50-4CAA-9219-8906792D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970-AB7B-4AA1-BE62-9E83913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FD4-2DD0-4D78-A462-8B07BFD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9FC-F2D7-43F6-90EA-177083F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3B3-CEDC-4CB1-AD3B-56A7C53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483-A31A-42C5-8BE9-19C3C4D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51D-FFE6-4127-A716-E9E226DF6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eri Pembekalan CP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sub bidang Sejara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wasan Kebangs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K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jara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05:25:29Z</dcterms:created>
  <dc:creator>Valued Acer Customer</dc:creator>
  <dc:description/>
  <dc:language>en-US</dc:language>
  <cp:lastModifiedBy>Valued Acer Customer</cp:lastModifiedBy>
  <dcterms:modified xsi:type="dcterms:W3CDTF">2014-09-30T05:33:04Z</dcterms:modified>
  <cp:revision>1</cp:revision>
  <dc:subject/>
  <dc:title>Materi Pembekalan CPNS (sub bidang Sejarah)</dc:title>
</cp:coreProperties>
</file>