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explode.wav" ContentType="audio/x-wav"/>
  <Override PartName="/ppt/media/camera.wav" ContentType="audio/x-wav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93F-3872-42F2-ACC0-98033A3E2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B93E-73A6-4298-A24F-5067E9B3CD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7CD2-983C-4FD1-A284-CC921D7894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EC13-1477-45AF-8460-D7C097514D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0198-FFC7-4892-960B-4A036C68A6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3A9-6CA5-4F1A-B1C7-EE6F19E8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B3C-AB8E-45E0-8E04-4B0568ED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5F9-4A2F-4070-AB93-A9FAEF71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D6C-74D3-4445-A6A2-5971E92B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7352-13B7-4FD1-A55B-96605D4F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D2FE-852E-48D3-B706-9696F49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EDC4-23F2-432A-B642-45D720DB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A7A3-6FE3-4834-9343-87123851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ED1E-6CA5-4097-8B31-58DD4B37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99C3-7578-4906-B8CB-A1F5750C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1BA2-2611-4104-9633-649A6384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1BA-3739-49FA-9416-AAC836C0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F9F0-6BED-4B2E-ABCF-795E0166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AE96-B82E-4214-B7CF-7DC8C2E5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9F9E-E6C9-433E-8D6E-C1343E4E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3D10-0AD5-4D12-B3A0-260C3F83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6FA9-FF3E-4984-A63D-9D83154F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6950-2BF0-475B-B62D-9BF7D443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18A3-4AC3-4CBB-93AE-BE18502C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E9FA-0DF8-4000-A76B-501B605C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2657-279A-45B3-8D22-C7571416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1F84-A920-470E-A1DC-DC0A1E5B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CBC-BCAB-4AC5-AF06-BEF3093D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29E0F-A258-4E0F-ACEE-0056B019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BE60-BFD8-4A32-BD2A-AB10DBCE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4372-BD2D-41AF-9DFB-A406C7F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AEBD-5898-4E28-942A-C7B1468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0F69-2142-4E50-B03E-74E7DB9E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C647-3AF1-4C91-85E5-5E77BE70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CDC1-F449-4792-A102-0502C3FE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8530-C235-4EB4-A2FC-3EF44B31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F236-FCAC-4079-BD20-588D94EA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3450-C915-49B8-A5AD-99B7E45B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3D0-9D36-45A6-8604-1BB8193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8BE82-5DD7-4B95-BFCB-9166CE75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3A52-E28C-4A9D-8FD4-9CD2BF18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A108D-D626-4C52-A7B7-E5B9EEAE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EC91-A7E0-4D96-B407-C0D42A4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125B9-0256-459F-A218-B3984030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7138-221C-4C4B-99CD-E47CBFD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DA57-CDC2-436C-B553-BFB4935C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AD94-6335-4F3A-9505-304141EE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2E97-B3EE-4DE5-8A39-9B4FCFAC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7979D-1ABE-4887-B3F4-E92C0C42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2D5-852D-43EB-828C-08B57940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DD7B-031E-4ED0-9115-30A752B9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B9077-B52D-4603-B50D-544E9884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D116C-2417-4B5C-B31B-BDA8E6E1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A1447-7BED-4E65-AE3E-3626A45A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B40A-FA9D-44D0-AB31-45206D70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8137D-7B58-4994-94F8-8C6A5FE1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197D8-2A1C-4A61-B807-124F8DC0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CB8D-9A7A-4C56-90FC-8F18D5E5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2D60-8BC7-4CAE-8CE6-B74EF62F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42A16-4122-48B2-B2EF-3EDF3E97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913-FD62-49B9-8FA9-1E7F0396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936D-3051-4113-8FB9-715FA3D4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A151-592B-4EA3-8974-173BFD1A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A7414-7AB7-426C-B6EE-42727626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22ED2-D5C1-41B4-A40D-4773CE99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8DE4-1741-4FF3-ACAA-17813358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1280A-8DD9-478D-BF67-2488321D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E3B90-4819-4EB3-88B4-06A75476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E0AD-0D8E-4E1D-B22F-0CEE1CC8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4CFFF-E493-4D07-A6C7-07327BB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C7422-B902-4E06-BECE-1BDED23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B38-7BFB-4F07-AC48-572D46D2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FB3AA-7D9A-4A9C-AD26-782E59F1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46B9-89E7-4101-B914-E651F26F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697B-1769-4E90-8E06-87A2D68B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00566-CB50-4629-BAF3-55500937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14E61-EA70-4C24-BC6F-3EB2D3AE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7F67A-2A23-46BE-9E59-D991BCFB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BC487-B0DA-4EB1-BFC9-89F857A2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F4C3D-5BE7-44EC-9775-D5913CF3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F3C1-B185-4C19-A407-E4BA0B50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26BD-9C22-423B-A2ED-43FE54F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F58-D431-40F0-ABFF-7DC779EE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C0FC6-9453-433C-B148-F7E6EB5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6E4B8-1246-4E4C-B05D-57875327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BF84C-922A-41E2-B32D-40A37D29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1CE79-A22B-4BCC-898B-CB383425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7EF9D-D389-4A3C-89C7-0D3E54BB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E22-73E3-48C6-B725-5DDCC2D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0067-8D2B-4AC0-B3EB-A85A7397AED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FDC-7A65-41CA-944C-6E252F04D75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D58E-3339-405A-9F8C-7934F89ED5C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F1B7-D3B4-4827-B2AF-AAA6FF42FC8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46E6-76A4-4B7E-A8FB-F1DE4AD12C4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DC3C-299C-4545-8D05-0B34ABF3777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529E-6111-4441-880C-31D40CEC40A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audio" Target="../media/explode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PENGUBURAN JAMAN PRA SEJARAH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  </a:t>
            </a: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MENHIR1"/>
          <p:cNvPicPr/>
          <p:nvPr/>
        </p:nvPicPr>
        <p:blipFill>
          <a:blip r:embed="rId1"/>
          <a:stretch/>
        </p:blipFill>
        <p:spPr>
          <a:xfrm>
            <a:off x="2286000" y="1143000"/>
            <a:ext cx="3809880" cy="541008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5"/>
          <p:cNvSpPr/>
          <p:nvPr/>
        </p:nvSpPr>
        <p:spPr>
          <a:xfrm>
            <a:off x="6400800" y="3581280"/>
            <a:ext cx="1752480" cy="457200"/>
          </a:xfrm>
          <a:prstGeom prst="flowChartTerminator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Menhir*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PENGUBURAN JAMAN PRA SEJARAH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  </a:t>
            </a: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6" descr="MENHIR2"/>
          <p:cNvPicPr/>
          <p:nvPr/>
        </p:nvPicPr>
        <p:blipFill>
          <a:blip r:embed="rId1"/>
          <a:stretch/>
        </p:blipFill>
        <p:spPr>
          <a:xfrm>
            <a:off x="1828800" y="1143000"/>
            <a:ext cx="3745080" cy="571500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7"/>
          <p:cNvSpPr/>
          <p:nvPr/>
        </p:nvSpPr>
        <p:spPr>
          <a:xfrm>
            <a:off x="6019920" y="3657600"/>
            <a:ext cx="1752480" cy="457200"/>
          </a:xfrm>
          <a:prstGeom prst="flowChartTerminator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Menhi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240" y="-6858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eeff"/>
                </a:solidFill>
                <a:latin typeface="Comic Sans MS"/>
              </a:rPr>
              <a:t>PENGUBURAN JAMAN PRA SEJARAH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5" descr="KUBUR MAYAT7"/>
          <p:cNvPicPr/>
          <p:nvPr/>
        </p:nvPicPr>
        <p:blipFill>
          <a:blip r:embed="rId1"/>
          <a:stretch/>
        </p:blipFill>
        <p:spPr>
          <a:xfrm>
            <a:off x="457200" y="1143000"/>
            <a:ext cx="6324480" cy="478152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7010280" y="2895480"/>
            <a:ext cx="1828800" cy="457200"/>
          </a:xfrm>
          <a:prstGeom prst="flowChartTerminator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Kubur Batu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240" y="-6858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eeff"/>
                </a:solidFill>
                <a:latin typeface="Comic Sans MS"/>
              </a:rPr>
              <a:t>PENGUBURAN JAMAN PRA SEJARAH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860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7315200" y="2895480"/>
            <a:ext cx="1828800" cy="457200"/>
          </a:xfrm>
          <a:prstGeom prst="flowChartTerminator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andush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Picture 5" descr="KUBUR MAYAT6"/>
          <p:cNvPicPr/>
          <p:nvPr/>
        </p:nvPicPr>
        <p:blipFill>
          <a:blip r:embed="rId1"/>
          <a:stretch/>
        </p:blipFill>
        <p:spPr>
          <a:xfrm>
            <a:off x="380880" y="1066680"/>
            <a:ext cx="65916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4:26:03Z</dcterms:created>
  <dc:creator>Valued Acer Customer</dc:creator>
  <dc:description/>
  <dc:language>en-US</dc:language>
  <cp:lastModifiedBy>Valued Acer Customer</cp:lastModifiedBy>
  <dcterms:modified xsi:type="dcterms:W3CDTF">2013-10-23T14:28:04Z</dcterms:modified>
  <cp:revision>1</cp:revision>
  <dc:subject/>
  <dc:title>PENGUBURAN JAMAN PRA SEJARAH</dc:title>
</cp:coreProperties>
</file>