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F32-1BF8-4A0A-A72F-55B04681F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458-9783-4AAF-BA97-2754572E9B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245E-0886-4B3B-9196-E79BC593DD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DB20-F15E-4AC1-9348-0997D8DF5A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FDEF-6E95-4446-91AA-37B78659F6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472-BB0F-4766-90CA-D4F1FCAD85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1DE2-C1AA-41A1-8E3E-6D594238EB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5D1A-080D-4CCF-8FA1-57702D3791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F1ED-8386-41F4-8D14-6B382EE1C4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D294-ADED-4880-97A7-E69EDAB963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752-0B9E-4F0E-B22C-AA433AFAF9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5863-8F75-4C49-9ACB-59914CDF34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3CB6-E748-4EC4-8E5A-128D2219CD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C9D2-9483-4E8D-9240-12DF6456BD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FB54-88B2-4125-91DE-FFA658AC82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D7EC-5A35-4D59-80D1-D0AD6DB271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814A-B02D-41F4-A641-9E58DDB94B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E413-AF35-4998-8B4C-C5BC5BDDAA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D256-1890-4A3A-8353-68CBAD567A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F63-2D3F-4A5A-A5CC-AFD017D9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D9C-B105-4CCA-8180-02EEE92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11B8F-1FD2-40A5-A485-F40327C4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2ABA9-BE81-4FD2-BB57-F450AD72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768BD-FBE3-4579-9BEC-28E5D1C5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D8385-F6D7-477F-8CC8-D50983A3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070D0-77EA-4FB4-B2B6-7A3C95E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8C7D8-10E9-402B-8626-FFEFB9D5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3F0F3-D437-49A6-AB0B-EEBDC9C7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AEF96-5696-497D-8548-50B8D758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66D94-14D5-42AE-B976-C25FCBDF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FB4-3EF9-442B-99BE-AE7EBD9C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F98-A099-4707-A70F-129023DE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19BA-8138-4C84-9F41-DEC33495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1F71-1D41-4A41-80B1-983CFE34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4BC4-AFFD-4692-8B0E-00A8403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63C-245A-4B59-84F1-EC1A1F3A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28C9-CC9D-4702-B7F5-31A72C8F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6666-A066-438E-85D6-2D1C76A6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8D78-1E34-4533-BB46-57AAFCE2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90F-2ED2-4F29-82B6-C7752420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CA5E-6C41-4126-A859-8B7314CB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0FD7-7BB4-4208-8AC8-833B9300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7717-C202-4323-8D4E-B5948FDA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EDD9-CB33-4CCB-AD0D-01173D1F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BA62-AF02-4423-9EC0-94A5334F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F803-06B7-414E-A536-C81CFB7B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4919-320F-4A15-B564-2495BAAD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17CC-6F3D-405D-9D47-DD7245E3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F6A4-524D-47ED-9A8A-2DD5B2E7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A9B8-965F-439E-AFBA-C55D65F4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68B-92A7-49F3-8F78-50D19F78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1E93-B9BA-41F9-A03E-3A4D1531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17B0-B1D6-4D01-95F4-4DAEDCB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E214-5E4A-4D1F-BC59-D393392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6E4B-A782-4F0E-9BDC-573FEA6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F8F5-72DE-4520-85D6-04B2606A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ADC5-9A4C-4AC0-A2ED-A3BFDC33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F3456-6C8F-4F28-9CDE-8B1C21D7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E7BC-C95C-49A2-BFBA-14EC1F87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B528-390A-4527-894B-C9C99B01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48E35-7BB7-4AF4-BFAF-7E34542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9C4-7BD9-493D-B2E8-025FE738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C26A-8203-48BD-8B7B-8B78FD53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89B6-D241-45D8-A378-8C26D46C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AE1F-2A14-4407-B0F3-0A3E1CDF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1EA82-15A9-45CE-AE56-42318BD8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EC1FF-4EF1-497D-AC69-500B5701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9EF5F-44FB-4DC6-90C1-8109807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173E-67A8-40E8-BDE9-51FED4BD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1E761-D2E2-4009-A2AA-02E5E15F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96A03-954D-474B-99BA-3A12ABCF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C0037-BDC7-49FD-81B4-7C4BDE4C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155-E41F-48A9-B648-C1DE62B9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22326-4097-4F7F-BADF-08E9FE99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5731-0C90-45E1-86C7-FC0FA4B4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FF264-E0F5-4B3F-87C3-435FB85F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65C6-8C16-45A2-8FD6-081D766C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452D-8D89-41E4-94EF-C3F9FEE0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FFDBC-8DA6-459C-8B7D-D9CE0BF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4ED9-4F4A-4552-B54C-691D3114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ED8EF-CEED-46F9-B745-0571BFA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C9DEB-444E-402E-82EB-5133E015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90A31-8D39-4672-A46B-F156ADEA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B5F-3D54-4144-8273-A0EC7EC7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45784-D288-4A36-9582-20B7A675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98587-4E51-4721-9DA6-0F12810F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BCBA-139A-44FD-BE7D-E1CFB977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99812-E7D8-4D59-9C94-075E46DF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FEF5-3575-4ADC-A7C2-307B1F83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BC99-128C-40A7-BC5F-9BDC7CC9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44FEC-8148-4E49-B98C-EACEA56B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4C94F-CD88-4006-AC51-CC37B736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BB53-28B9-4453-BB49-8D67F4FB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369DE-E7B9-4CED-9717-3DA396F3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7E9-A000-44E1-A225-31E1A5AA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93C2-9D8D-4CFA-ADDF-0751DFE0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ED85A-BCEC-4D2B-A16A-2FCCE6EE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D7B02-2EDF-4259-8293-14E90EA7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03437-4F3B-4CF7-930D-C95AB2D6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76EBB-393B-436B-8CB5-35F1B104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00F3C-4905-465D-8DF2-121FB191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050A-BE73-49B2-9CBA-6D3B776D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6E26F-AEE8-4B6D-BCD3-827C461C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98503-B004-4061-BBB9-BED6460F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3C883-6104-407A-97F5-807155E7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53B-A340-4273-A12E-0CC20670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C802-B027-457E-AF01-E23F3D61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9CC5-C5D4-4BB5-B4AE-EBAE9F06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C5D1A-C6F4-4FA0-BE48-4148659C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6C70B-B6B7-42E8-A933-A154D53F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387B7-04C6-4CDF-8D46-C5B9551C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4A7D0-5182-4DFA-8F3F-3AD8A33D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D84DC-5F09-43B0-B1C8-8100E64B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25D3-C7E2-4EA8-89F9-B7E74BEC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54D65-7F17-4664-9777-397AD384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DA9EC-2BA7-4596-B4CB-D05B8CB3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907-4C9A-4B34-B9EA-DF500F3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6284-47AE-48DE-8B97-681AEF34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3BF3B-74C8-4C13-BA28-FFE4A322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9A279-9225-4CBE-B273-83FE094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60E50-44EA-4675-93F2-35D313D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ED342-EC01-4759-AEE1-E3AB0DB2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D58AB-F4F6-496E-976A-C0A4308F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04C4B-D3C1-4562-BA68-AB043182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184EA-3339-4C94-8075-69D5B893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7BFDE-8F9C-41C9-AEB8-6A4AD7AD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08591-5A52-49D4-AEE8-BAA67611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E554-AA05-47C7-9F8C-6FCA044C98D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FC6-6A6D-4A6E-BB8F-95B96D071C1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6207-5554-4B63-91C3-0E7DBA21C21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9736-5B4F-4B51-8314-34E4FF44368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37A7-46D6-43E4-8E2C-6A8C1C79774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F78-DD4D-44DE-B5B9-3174EB042B5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548-53C9-4C2A-8109-B31F1E4676C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57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61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65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B639-DF5C-44FD-80A0-6DBE5AFE3EC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81A8-FFEC-4653-B581-5E52AE55267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PKU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189000" y="426960"/>
            <a:ext cx="8467560" cy="194472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761760" y="837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Munculnya nasionalisme Indone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Munculnya dan Berkembangnya Pergerakan Kebangsaan Indon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9156960" cy="12556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ari jadi organisasi ini dijadikan sebagai Hari Kebangkitan Nasional Indonesia. Walaupun awalnya bukan organisasi yang bersifat nasional namun Bud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tomo merupaka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organisasi modernis pertam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di Indones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okoh yg Propaganda ;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dr. Wahidin Sudirohusodo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ama: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budi ingkang utami (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r Wahidn Sudirohusodo, berpropaganda dan berkeliling di Jawa, berusaha menghimpun beasiswa 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(studiefonds)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untuk melaksanakan pendidikan bagi kalangan priyayi.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Budi ingkang utami menginspirasi menejadi Budi Utom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etua BU adalah: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utom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22824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Book Antiqua"/>
              </a:rPr>
              <a:t>SI (Sarekat Islam) bermula dari (SDI) Sarekat Dagang Islam yang didirikan oleh seorang pedagang batik, yaitu </a:t>
            </a:r>
            <a:r>
              <a:rPr b="1" i="1" lang="es-ES" sz="2600" spc="-1" strike="noStrike">
                <a:solidFill>
                  <a:srgbClr val="ffffff"/>
                </a:solidFill>
                <a:latin typeface="Book Antiqua"/>
              </a:rPr>
              <a:t>KH Samanhudi (ada yg menyebut 1905?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Latar belakang didirikannya SDI </a:t>
            </a:r>
            <a:r>
              <a:rPr b="1" lang="es-ES" sz="2600" spc="-1" strike="noStrike">
                <a:solidFill>
                  <a:srgbClr val="ffffff"/>
                </a:solidFill>
                <a:latin typeface="Book Antiqua"/>
              </a:rPr>
              <a:t>lebih bersifat ekonomis</a:t>
            </a: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 (membantu para pedagang pribumi yang sedang menghadapi saingan dari para pedagang Cina (antara para pedagang di Laweyan dengan para pedagang Cina di firma 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Sie Dian Ho)</a:t>
            </a: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1" lang="es-ES" sz="2600" spc="-1" strike="noStrike">
                <a:solidFill>
                  <a:srgbClr val="ffffff"/>
                </a:solidFill>
                <a:latin typeface="Book Antiqua"/>
              </a:rPr>
              <a:t>Para pedagang Cina umumnya mudah mendapatkan fasilitas dan monopoli sebagai penyalur tunggal untuk bahan-bahan batik</a:t>
            </a: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tas usul H. Umar Said Cokroaminoto, pada tahun 1912 SDI diubah menjadi 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Sarekat Islam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ffffff"/>
                </a:solidFill>
                <a:latin typeface="Book Antiqua"/>
              </a:rPr>
              <a:t>Anggota Sl 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tidak hanya terbatas para pedagang Islam, tetapi seluruh umat Islam dari segala lapisa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Title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76320" y="11426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P (Indische Partij)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erupak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organisasi pergerakan atau partai politik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yang pertama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i Indonesi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endirinya adalah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Dr. E.F.E. Douwes Dekker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yang juga terkenal dengan nama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Danudirjo Setyabudi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. Ia adalah seorang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ndo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yang simpati terhadap perjuangan bangsa Indonesia. la sangat menentang berbagai praktik kekejaman Beland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endiri yang lain adalah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dr. Cipto Mangunkusumo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dan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uwardi Suryaningrat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. Ketiga pendiri IP ini dikenal dengan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Tiga Serangka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152280" y="7617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uhammadiyah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rupakan organisasi reformis di bidang sosial keagamaa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iantara latarbelakangny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kelompok abangan (bukan santri)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banyak menjalankan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kebiasaan dan tradisi-tradisi yang cenderung ke arah mistik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dan pantheism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orang abangan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ke makam lebih banyak berniat untuk minta sesuatu kepada yang dimakamkan. Sedangkan,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santri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berziarah untuk mendoakan arwah orang yang sudah dimakamkan itu.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endiri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uhammad Darwis atau yang lebih terkenal dengan KH. Ahmad Dahlan pada tanggal 18 November 1912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alah satu gerakan bidang Sosial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: PKU </a:t>
            </a:r>
            <a:r>
              <a:rPr b="1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.&gt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15228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alah satu latar belakang berdiriny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sikap-sikap Muhammadiyah yang menentang tradisi, dikhawatirkan akan berakibat terlalu bebas dalam menafsirkan dan melaksanakan ajaran Islam. Hal yang demikian tidak disenangi oleh para ulama dan santri yang ada di pondok-pondok pesantren atau di daerah pedesaan. Dengan dasar pertimbangan itu maka para ulama sepakat untuk mendirikan organisasi Islam yang lain, yakni NU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(Nahdatul Ulama)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U didirikan pada tanggal 31 Januari 1926 melalui pertemuan para ulama di kampung Kertopaten, Surabaya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ra ulama yang hadir dalam pertemuan itu, antara lain KH. Hasyim Asy'ari, KH. Abdul Wahab Hasbullah, KH. Bisri Syamsuri, KH. Mas Alwi, dan KH. Ridwan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U mengutamakan program dan kegiatan yang bersifat sosial keagamaan. Hal ini sesuai dengan khittah 1926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U adalah organisasi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osial keagamaa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tau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Jamyyah diniyah Islamiyah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Menurut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khittah 192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NU tidak ingin berpolitik dan tidak ingin mencampuri urusan politi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rganisasi pergerakan nasional Indonesia yang melakukan aktivitas di luar negeri (negeri Belanda) adalah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Indische Vereeniging (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V) atau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Perkumpulan Hindi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yang kemudian lebih dikenal dcngan nama PI (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Perhimpunan Indonesia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Title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1082160"/>
            <a:ext cx="8229600" cy="53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0 April sampai 2 Mei 1926, di Jakarta diadakan Kongres Pemuda I yang dipimpin oleh M. Tabrani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ujuan Kongres Pemuda itu, sebagai beriku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)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emajukan faham persatuan kebangsaan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2)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empererat hubungan antara semua perkumpulan pemud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Setelah dilangsungkan Kongres Pemuda I, ada usul-usul agar dilaksanakan penggabungan organisasi-organisasi pemuda yang ada. Berkaitan dengan itu, maka pada tanggal 31 Agustus 1926 lahirlah perkumpulan baru yang diberi nama </a:t>
            </a:r>
            <a:r>
              <a:rPr b="1" i="1" lang="es-ES" sz="2600" spc="-1" strike="noStrike">
                <a:solidFill>
                  <a:srgbClr val="ffffff"/>
                </a:solidFill>
                <a:latin typeface="Book Antiqua"/>
              </a:rPr>
              <a:t>Jong Indonesi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Pada konggresnya  tanggal 28 Desember 1927,di bandung  Jong Indonesia memutuskan Nama 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Jong Indonesia</a:t>
            </a: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, diubah menjadi 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Pemuda Indonesi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Title 1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Ketua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Sugondo Joyopuspito dari PPPI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ada puncak acara Kongres Pemuda II, diikrarkan sebuah resolusi atau putusan kongres yang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naskahnya dirumuskan oleh Muh. Yami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Rumusan tersebut kemudian dikenal dengan </a:t>
            </a:r>
            <a:r>
              <a:rPr b="1" i="1" lang="en-US" sz="2600" spc="-1" strike="noStrike">
                <a:solidFill>
                  <a:srgbClr val="99ffcc"/>
                </a:solidFill>
                <a:latin typeface="Book Antiqua"/>
              </a:rPr>
              <a:t>Sumpah Pemud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Book Antiqua"/>
              </a:rPr>
              <a:t>Pertama 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: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Kami putra dan putri Indonesia mengaku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Book Antiqua"/>
              </a:rPr>
              <a:t>bertumpah darah yang sa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tu, tanah Indonesi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Book Antiqua"/>
              </a:rPr>
              <a:t>Kedua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: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Kami putra dan putri Indonesia, mengaku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Book Antiqua"/>
              </a:rPr>
              <a:t>berbangsa yang satu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, bangsa Indonesi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Book Antiqua"/>
              </a:rPr>
              <a:t>Ketiga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: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Kami putra dan putri Indonesia,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Book Antiqua"/>
              </a:rPr>
              <a:t>menjunjung bahasa persatuan</a:t>
            </a: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, bahasa Indonesi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Book Antiqua"/>
              </a:rPr>
              <a:t>Putusan tsb wajib dipakai oleh segala perkumpulan kebangsaan Indonesi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1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24720" cy="11588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Yang utama: Nilai persatuan dan kesatuan bangsa  inilah yang mengantar kemerdekaan Indonesi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Perbedaan pendapat tetap dibiarkan, tidak dilarang. Akan tetapi, perbedaan pendapat itu jangan sampai mengorbankan persatuan dan kesatuan bangs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00"/>
                </a:solidFill>
                <a:latin typeface="Consolas"/>
              </a:rPr>
              <a:t>Pengertian Nasionalism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uatu paham kebangsaan yang tumbuh karena rasa cinta kepada bangsa dan tanah air sendiri, serta menempatkan segala kepentingan kebangsaan di atas kepentingan-kepentingan yang lai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00"/>
                </a:solidFill>
                <a:latin typeface="Consolas"/>
              </a:rPr>
              <a:t>Faktor Pendorong Munculnya Pergerakan Kebangsaan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2286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bel"/>
              </a:rPr>
              <a:t>Faktor ekster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bel"/>
              </a:rPr>
              <a:t>Faktor inter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c1eeff"/>
                </a:solidFill>
                <a:latin typeface="Consolas"/>
              </a:rPr>
              <a:t>Sebab-sebab dari dalam negeri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Penderitaan rakyat akibat penjajahan yang sudah begitu lama. Rakyat Indonesia merasa senasib sepenanggungan, sehingga perlu bersama-sama menentang penjajah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Pembangunan sarana komunikasi yang mempermudah rakyat antardaerah (antarpulau) untuk. bertemu dan bergaul serta bertukar informasi dan pengalaman di dalam perjuanga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Dicanangkannya program kesatuan Indonesia di bawah </a:t>
            </a:r>
            <a:r>
              <a:rPr b="1" i="1" lang="id-ID" sz="2300" spc="-1" strike="noStrike">
                <a:solidFill>
                  <a:srgbClr val="ffffff"/>
                </a:solidFill>
                <a:latin typeface="Corbel"/>
              </a:rPr>
              <a:t>Pax Neerlandica,</a:t>
            </a: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 sehingga mendorong ke arah pemikiran kesatuan bangsa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Adanya Undang-Undang Desentralisasi Tahun 1903 telah memberi inspirasi mengenai tata cara dan kehidupan demokrasi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Kenangan kebesaran Kerajaan Sriwijaya dan Majapahit, sehingga mendorong untuk mewujudkan kembali atas kesatuan dan kejayaan bangsa Indonesia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Munculnya kaum terpelajar di lingkungan bangsa Indonesia setelah mengikuti pendidika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c1eeff"/>
                </a:solidFill>
                <a:latin typeface="Consolas"/>
              </a:rPr>
              <a:t>sebab-sebab dari luar negeri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800" y="10666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Pengaruh berkembangrrya ide-ide atau paham-paham Barat, seperti nasionalisme, liberalisme, sosialisme, dan Pan Islamism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Kemenangan Jepang atas Rusia pada perangnya tahun 1905. Hal ini telah mengangkat dan mengembalikan kepercayaan bangsa Indonesia sebagai bangsa kulit berwarn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Munculnya pergerakan-pergerakan nasional di negara-negara lain dalam upaya melawan kekuasaan as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c1eeff"/>
                </a:solidFill>
                <a:latin typeface="Consolas"/>
              </a:rPr>
              <a:t>Ciri-ciri perjuangan bangsa Indonesia sebelum tahun 1908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400" y="178416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orbel"/>
              </a:rPr>
              <a:t>Perlawanan lokal atau bersifat kedaeraha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orbel"/>
              </a:rPr>
              <a:t>Perjuangan terfokus kepada pimpinan. Pimpinan dipandang sebagai tokoh yang kharismatik, dianggap oleh para pengikutnya memiliki kesaktia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orbel"/>
              </a:rPr>
              <a:t>Perlawanan ini berakhir kaIau pemimpinnya tertangkap/terbunu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orbel"/>
              </a:rPr>
              <a:t>Perjuangan umumnya secara fisik, yaitu berperang dengan s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e</a:t>
            </a:r>
            <a:r>
              <a:rPr b="1" lang="id-ID" sz="2800" spc="-1" strike="noStrike">
                <a:solidFill>
                  <a:srgbClr val="ffffff"/>
                </a:solidFill>
                <a:latin typeface="Corbel"/>
              </a:rPr>
              <a:t>njat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orbel"/>
              </a:rPr>
              <a:t>Belu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m</a:t>
            </a:r>
            <a:r>
              <a:rPr b="1" lang="id-ID" sz="2800" spc="-1" strike="noStrike">
                <a:solidFill>
                  <a:srgbClr val="ffffff"/>
                </a:solidFill>
                <a:latin typeface="Corbel"/>
              </a:rPr>
              <a:t> dipikirkan tentang kelanjutan dari keberhasilan sebuah perjuanga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C</a:t>
            </a:r>
            <a:r>
              <a:rPr b="1" lang="id-ID" sz="4000" spc="-1" strike="noStrike">
                <a:solidFill>
                  <a:srgbClr val="c1eeff"/>
                </a:solidFill>
                <a:latin typeface="Consolas"/>
              </a:rPr>
              <a:t>iri-ciri perjuangan sesudah tahun 1908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09480" y="15238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Perjuangan lebih bersifat nasional, dalam arti telah terjadi kerja sama antara. daerah yang satu dengan daerah yang lai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Perjuangan tidak terfokus pada seorang pemimpin, tetapi dengan kekuatan yang terorganisasi secara teratur melalui organisasi pergerakan nasional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Lebih bersifat rasional, diatur dengan AD dan ART (Anggaran Dasar dan Anggaran Rumah Tangga) yang memungkinkan perjuangan bertahan lama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Apabila kehilangan pemimpin, akan ditunjuk pemimpin yang lai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Corbel"/>
              </a:rPr>
              <a:t>Telah dipikirkan kelanjutan dari hasil perjuangan itu, melalui rumusan tujuan dari organisasi-organisasi pergerakan tersebut. Misalnya tentang masyarakat yang akan dibentuk, pemerintahannya, sistem perekonomian, niaupun tentang pendidika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eeff"/>
                </a:solidFill>
                <a:latin typeface="Consolas"/>
              </a:rPr>
              <a:t>Ciri Organisasi Modern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14040" y="1263600"/>
            <a:ext cx="80010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Pengurus organisasi sudah ditetapka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Anggota organisasi sudah didaftar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Aturan dan dasar perjuangan sudah dirumuskan. Umumnya telah disusun AD/AR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Tujuan dan programnya jelas dan terara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ff"/>
                </a:solidFill>
                <a:latin typeface="Corbel"/>
              </a:rPr>
              <a:t>Tidak semata-mata tergantung pada seorang pemimpin, tetapi sudah ada pembagian tug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BU sbg Kebangkitan Nasi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Corbel"/>
              </a:rPr>
              <a:t>Lahirnya BU </a:t>
            </a:r>
            <a:r>
              <a:rPr b="1" lang="pt-BR" sz="3000" spc="-1" strike="noStrike" u="sng">
                <a:solidFill>
                  <a:srgbClr val="ffffff"/>
                </a:solidFill>
                <a:uFillTx/>
                <a:latin typeface="Corbel"/>
              </a:rPr>
              <a:t>membuktikan adanya corak baru dalam sejarah perjuangan bangsa Indonesia</a:t>
            </a:r>
            <a:r>
              <a:rPr b="1" lang="pt-BR" sz="3000" spc="-1" strike="noStrike">
                <a:solidFill>
                  <a:srgbClr val="ffffff"/>
                </a:solidFill>
                <a:latin typeface="Corbel"/>
              </a:rPr>
              <a:t>. Sekalipun pada permulaan keanggotaan BU terbatas pada kelompok priyayi Jawa, namun telah </a:t>
            </a:r>
            <a:r>
              <a:rPr b="1" lang="pt-BR" sz="3000" spc="-1" strike="noStrike" u="sng">
                <a:solidFill>
                  <a:srgbClr val="ffffff"/>
                </a:solidFill>
                <a:uFillTx/>
                <a:latin typeface="Corbel"/>
              </a:rPr>
              <a:t>diberi </a:t>
            </a:r>
            <a:r>
              <a:rPr b="1" lang="pt-BR" sz="4000" spc="-1" strike="noStrike" u="sng">
                <a:solidFill>
                  <a:srgbClr val="ffffff"/>
                </a:solidFill>
                <a:uFillTx/>
                <a:latin typeface="Corbel"/>
              </a:rPr>
              <a:t>corak baru</a:t>
            </a:r>
            <a:r>
              <a:rPr b="1" lang="pt-BR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pt-BR" sz="3000" spc="-1" strike="noStrike">
                <a:solidFill>
                  <a:srgbClr val="ffff00"/>
                </a:solidFill>
                <a:latin typeface="Corbel"/>
              </a:rPr>
              <a:t>dengan bentuk </a:t>
            </a:r>
            <a:r>
              <a:rPr b="1" lang="pt-BR" sz="3000" spc="-1" strike="noStrike" u="sng">
                <a:solidFill>
                  <a:srgbClr val="ffff00"/>
                </a:solidFill>
                <a:uFillTx/>
                <a:latin typeface="Corbel"/>
              </a:rPr>
              <a:t>organisasi modern</a:t>
            </a:r>
            <a:r>
              <a:rPr b="1" lang="pt-BR" sz="3000" spc="-1" strike="noStrike">
                <a:solidFill>
                  <a:srgbClr val="ffff00"/>
                </a:solidFill>
                <a:latin typeface="Corbel"/>
              </a:rPr>
              <a:t>, </a:t>
            </a:r>
            <a:r>
              <a:rPr b="1" lang="pt-BR" sz="3000" spc="-1" strike="noStrike" u="sng">
                <a:solidFill>
                  <a:srgbClr val="ffff00"/>
                </a:solidFill>
                <a:uFillTx/>
                <a:latin typeface="Corbel"/>
              </a:rPr>
              <a:t>memiliki ideologi dan dasar yang jelas</a:t>
            </a:r>
            <a:r>
              <a:rPr b="1" lang="pt-BR" sz="3000" spc="-1" strike="noStrike">
                <a:solidFill>
                  <a:srgbClr val="ffff00"/>
                </a:solidFill>
                <a:latin typeface="Corbel"/>
              </a:rPr>
              <a:t>, </a:t>
            </a:r>
            <a:r>
              <a:rPr b="1" lang="pt-BR" sz="3000" spc="-1" strike="noStrike" u="sng">
                <a:solidFill>
                  <a:srgbClr val="ffff00"/>
                </a:solidFill>
                <a:uFillTx/>
                <a:latin typeface="Corbel"/>
              </a:rPr>
              <a:t>memiliki pimpinan dan anggota </a:t>
            </a:r>
            <a:r>
              <a:rPr b="1" lang="pt-BR" sz="3000" spc="-1" strike="noStrike">
                <a:solidFill>
                  <a:srgbClr val="ffff00"/>
                </a:solidFill>
                <a:latin typeface="Corbel"/>
              </a:rPr>
              <a:t>serta </a:t>
            </a:r>
            <a:r>
              <a:rPr b="1" lang="pt-BR" sz="3000" spc="-1" strike="noStrike" u="sng">
                <a:solidFill>
                  <a:srgbClr val="ffff00"/>
                </a:solidFill>
                <a:uFillTx/>
                <a:latin typeface="Corbel"/>
              </a:rPr>
              <a:t>program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3:05:31Z</dcterms:created>
  <dc:creator>Valued Acer Customer</dc:creator>
  <dc:description/>
  <dc:language>en-US</dc:language>
  <cp:lastModifiedBy>Valued Acer Customer</cp:lastModifiedBy>
  <dcterms:modified xsi:type="dcterms:W3CDTF">2014-10-01T04:16:49Z</dcterms:modified>
  <cp:revision>10</cp:revision>
  <dc:subject/>
  <dc:title>PERKEMBANGAN PERGERAKAN KEBANGSAAN INDONESIA</dc:title>
</cp:coreProperties>
</file>