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camera.wav" ContentType="audio/x-wav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glass.wav" ContentType="audio/x-wav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062D-B332-4B5E-AACF-060595FB7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F0B0-E2E4-4DCC-919B-8C40BFB44F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94E6-FBBA-494A-BC65-3826C5EBC7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9C01-B4D4-49AD-9606-07ABFEA771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D1C6-A88F-441F-A3E7-35C293AA0E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E144-5FCA-4B32-812F-C7771CD411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7E5D-7CA2-4AED-945A-2370C46A55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A28C-4D95-4C3F-9804-AFB21BD41A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2907-BFF6-4349-8222-F8D70A446A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1561-EA64-4C00-ADFF-0151EB1208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73D6-66E4-47CE-B8A5-AC548455F3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53FF-FBCC-49EC-91D7-D3A8B52738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C5DE-2E68-4B4B-9808-36D2D87B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846-5F85-4766-92C3-A0B7431E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FE93-A358-4D82-92B8-2496E712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0DF4-378F-46CC-8807-76EF8BE3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AAF1-5EAC-4836-B612-95E2ECD8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8983-7250-4082-B03F-9B1CD802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4D3C-ADE1-46BB-AF0B-857A737E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2209-C0CB-4280-A960-01BD1D51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9856-12EC-4667-8F00-1B58DC98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FC78-F68D-433C-B4A9-D26AAEB0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C498-0C2E-426C-8F2B-8FD1D76F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7D6-C031-4D63-9EB4-397F3CDF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4384-7EBE-4F71-9EA2-A0F7BE6B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2173-54D4-4821-8E19-579787BB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34BF-79E1-49A3-948B-7ABE084C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4AAA-5C8E-438B-84D7-0E33A6C8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784E-EF9D-44AA-9023-5FFAFBBE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FF77-F967-4EDE-B9E4-62B2D5E5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3BC-F699-4795-B7EC-C632CBB2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1779-356F-4BE5-99A0-F9E31D4C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443-671E-4D13-B387-A13550CE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38B0-EF18-4E53-80EC-A76CB785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FB3-6FBC-4FB7-BC25-45B511A4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1D4-4219-4CB2-8AE9-52EF8203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A4D2-0534-46B3-AFF6-DEEF73E1B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5268-8E64-4D78-B299-C56E6DFA35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Akulturasi Bangunan Makam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FATIMAH1"/>
          <p:cNvPicPr/>
          <p:nvPr/>
        </p:nvPicPr>
        <p:blipFill>
          <a:blip r:embed="rId1"/>
          <a:stretch/>
        </p:blipFill>
        <p:spPr>
          <a:xfrm>
            <a:off x="1066680" y="1752480"/>
            <a:ext cx="6274080" cy="43563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2514600" y="6248520"/>
            <a:ext cx="335268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Comic Sans MS"/>
              </a:rPr>
              <a:t>Bentuknya Menyerupai Can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Komplek makam Raja di makasar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2" name="Picture 2" descr="E:\DATA NUR ROKHMAN 2\FOTO FOTO dan VIDEO\MAKASAR\MAKAM RAJA RAJA\Foto1310.jpg"/>
          <p:cNvPicPr/>
          <p:nvPr/>
        </p:nvPicPr>
        <p:blipFill>
          <a:blip r:embed="rId1"/>
          <a:stretch/>
        </p:blipFill>
        <p:spPr>
          <a:xfrm>
            <a:off x="1295280" y="19810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Komplek makam di Tanah Dat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4" name="Picture 2" descr="E:\DATA NUR ROKHMAN 2\FOTO FOTO dan VIDEO\FOTO HP KE 2\TANAH DATAR\MAKAM RAJO ALAM\Foto0675.jpg"/>
          <p:cNvPicPr/>
          <p:nvPr/>
        </p:nvPicPr>
        <p:blipFill>
          <a:blip r:embed="rId1"/>
          <a:stretch/>
        </p:blipFill>
        <p:spPr>
          <a:xfrm>
            <a:off x="431640" y="1905120"/>
            <a:ext cx="6197760" cy="4647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E:\DATA NUR ROKHMAN 2\FOTO FOTO dan VIDEO\FOTO HP KE 2\TANAH DATAR\MAKAM RAJO ALAM\Foto0676.jpg"/>
          <p:cNvPicPr/>
          <p:nvPr/>
        </p:nvPicPr>
        <p:blipFill>
          <a:blip r:embed="rId2"/>
          <a:stretch/>
        </p:blipFill>
        <p:spPr>
          <a:xfrm>
            <a:off x="7010280" y="304812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AKAM FATIMAH BINTI MAEMOON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(Transisi ?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FATIMAH 15"/>
          <p:cNvPicPr/>
          <p:nvPr/>
        </p:nvPicPr>
        <p:blipFill>
          <a:blip r:embed="rId1"/>
          <a:stretch/>
        </p:blipFill>
        <p:spPr>
          <a:xfrm>
            <a:off x="380880" y="1752480"/>
            <a:ext cx="2973600" cy="2105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FATIMAH 17"/>
          <p:cNvPicPr/>
          <p:nvPr/>
        </p:nvPicPr>
        <p:blipFill>
          <a:blip r:embed="rId2"/>
          <a:stretch/>
        </p:blipFill>
        <p:spPr>
          <a:xfrm>
            <a:off x="5029200" y="1676520"/>
            <a:ext cx="3233880" cy="2276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FATIMAH 6"/>
          <p:cNvPicPr/>
          <p:nvPr/>
        </p:nvPicPr>
        <p:blipFill>
          <a:blip r:embed="rId3"/>
          <a:stretch/>
        </p:blipFill>
        <p:spPr>
          <a:xfrm>
            <a:off x="2362320" y="4038480"/>
            <a:ext cx="372744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Komplek Makam Sunan Bonang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6" descr="MAKAM BENTUK CANDI"/>
          <p:cNvPicPr/>
          <p:nvPr/>
        </p:nvPicPr>
        <p:blipFill>
          <a:blip r:embed="rId1"/>
          <a:stretch/>
        </p:blipFill>
        <p:spPr>
          <a:xfrm>
            <a:off x="685800" y="1828800"/>
            <a:ext cx="68580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CUNGKUP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(Perkembangan Selanjutnya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CUNGKUP DRAJAT"/>
          <p:cNvPicPr/>
          <p:nvPr/>
        </p:nvPicPr>
        <p:blipFill>
          <a:blip r:embed="rId1"/>
          <a:stretch/>
        </p:blipFill>
        <p:spPr>
          <a:xfrm>
            <a:off x="76320" y="1752480"/>
            <a:ext cx="3352680" cy="2322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UNGKUP GIRI 2"/>
          <p:cNvPicPr/>
          <p:nvPr/>
        </p:nvPicPr>
        <p:blipFill>
          <a:blip r:embed="rId2"/>
          <a:stretch/>
        </p:blipFill>
        <p:spPr>
          <a:xfrm>
            <a:off x="5638680" y="1676520"/>
            <a:ext cx="3291120" cy="2390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MAULANA ISHAQ 2"/>
          <p:cNvPicPr/>
          <p:nvPr/>
        </p:nvPicPr>
        <p:blipFill>
          <a:blip r:embed="rId3"/>
          <a:stretch/>
        </p:blipFill>
        <p:spPr>
          <a:xfrm>
            <a:off x="2514600" y="4183200"/>
            <a:ext cx="388620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Nisan Maulana Malik Ibrahi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nisan malik ibrahim"/>
          <p:cNvPicPr/>
          <p:nvPr/>
        </p:nvPicPr>
        <p:blipFill>
          <a:blip r:embed="rId1"/>
          <a:stretch/>
        </p:blipFill>
        <p:spPr>
          <a:xfrm>
            <a:off x="304920" y="2166840"/>
            <a:ext cx="868680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-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Comic Sans MS"/>
              </a:rPr>
              <a:t>PENGARUH PADA PENGUBURAN JAMAN SELANJUTNY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TROLOYO1"/>
          <p:cNvPicPr/>
          <p:nvPr/>
        </p:nvPicPr>
        <p:blipFill>
          <a:blip r:embed="rId1"/>
          <a:stretch/>
        </p:blipFill>
        <p:spPr>
          <a:xfrm>
            <a:off x="838080" y="1295280"/>
            <a:ext cx="7086600" cy="45738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5"/>
          <p:cNvSpPr/>
          <p:nvPr/>
        </p:nvSpPr>
        <p:spPr>
          <a:xfrm>
            <a:off x="2514600" y="6095880"/>
            <a:ext cx="4114800" cy="53352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Century Gothic"/>
              </a:rPr>
              <a:t>Komplek Makam Troloy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8229600" y="1371600"/>
            <a:ext cx="609480" cy="4343400"/>
          </a:xfrm>
          <a:prstGeom prst="flowChartOffpageConnec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U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-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Comic Sans MS"/>
              </a:rPr>
              <a:t>PENGARUH PADA PENGUBURAN JAMAN SELANJUTNY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6" descr="ZIARAH2"/>
          <p:cNvPicPr/>
          <p:nvPr/>
        </p:nvPicPr>
        <p:blipFill>
          <a:blip r:embed="rId1"/>
          <a:stretch/>
        </p:blipFill>
        <p:spPr>
          <a:xfrm>
            <a:off x="838080" y="1295280"/>
            <a:ext cx="6934320" cy="47721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7"/>
          <p:cNvSpPr/>
          <p:nvPr/>
        </p:nvSpPr>
        <p:spPr>
          <a:xfrm>
            <a:off x="3505320" y="6324480"/>
            <a:ext cx="2590560" cy="533520"/>
          </a:xfrm>
          <a:prstGeom prst="flowChartTerminator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kam S. Amp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8229600" y="1371600"/>
            <a:ext cx="609480" cy="4343400"/>
          </a:xfrm>
          <a:prstGeom prst="flowChartOffpageConnec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U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UNGKUP MAULANA ISKHAQ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685800" y="1752480"/>
            <a:ext cx="6172200" cy="4343400"/>
            <a:chOff x="685800" y="1752480"/>
            <a:chExt cx="6172200" cy="4343400"/>
          </a:xfrm>
        </p:grpSpPr>
        <p:pic>
          <p:nvPicPr>
            <p:cNvPr id="124" name="Picture 5" descr="photo jadi 10"/>
            <p:cNvPicPr/>
            <p:nvPr/>
          </p:nvPicPr>
          <p:blipFill>
            <a:blip r:embed="rId1">
              <a:grayscl/>
              <a:lum bright="-36000"/>
            </a:blip>
            <a:stretch/>
          </p:blipFill>
          <p:spPr>
            <a:xfrm>
              <a:off x="685800" y="1752480"/>
              <a:ext cx="61722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6"/>
            <p:cNvSpPr/>
            <p:nvPr/>
          </p:nvSpPr>
          <p:spPr>
            <a:xfrm>
              <a:off x="685800" y="1752480"/>
              <a:ext cx="6172200" cy="4343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 txBox="1"/>
          <p:nvPr/>
        </p:nvSpPr>
        <p:spPr>
          <a:xfrm>
            <a:off x="7543440" y="1676160"/>
            <a:ext cx="762480" cy="344880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U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akam Muslim di Cin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8" name="Picture 2" descr="C:\Documents and Settings\ACER\My Documents\Foto1134.jpg"/>
          <p:cNvPicPr/>
          <p:nvPr/>
        </p:nvPicPr>
        <p:blipFill>
          <a:blip r:embed="rId1"/>
          <a:stretch/>
        </p:blipFill>
        <p:spPr>
          <a:xfrm>
            <a:off x="228600" y="1752480"/>
            <a:ext cx="3753000" cy="5004000"/>
          </a:xfrm>
          <a:prstGeom prst="rect">
            <a:avLst/>
          </a:prstGeom>
          <a:ln w="0">
            <a:noFill/>
          </a:ln>
        </p:spPr>
      </p:pic>
      <p:sp>
        <p:nvSpPr>
          <p:cNvPr id="129" name="Striped Right Arrow 3"/>
          <p:cNvSpPr/>
          <p:nvPr/>
        </p:nvSpPr>
        <p:spPr>
          <a:xfrm>
            <a:off x="4343400" y="2057400"/>
            <a:ext cx="4495680" cy="1523880"/>
          </a:xfrm>
          <a:prstGeom prst="pie">
            <a:avLst/>
          </a:prstGeom>
          <a:solidFill>
            <a:srgbClr val="cc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hat tempat lain (makas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Striped Right Arrow 4"/>
          <p:cNvSpPr/>
          <p:nvPr/>
        </p:nvSpPr>
        <p:spPr>
          <a:xfrm>
            <a:off x="4343400" y="4419720"/>
            <a:ext cx="4419720" cy="1523880"/>
          </a:xfrm>
          <a:prstGeom prst="pie">
            <a:avLst/>
          </a:prstGeom>
          <a:solidFill>
            <a:srgbClr val="cc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hat tempat lain (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anah Dat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08:27:03Z</dcterms:created>
  <dc:creator>History Education Dept</dc:creator>
  <dc:description/>
  <dc:language>en-US</dc:language>
  <cp:lastModifiedBy>Valued Acer Customer</cp:lastModifiedBy>
  <dcterms:modified xsi:type="dcterms:W3CDTF">2013-10-23T14:54:48Z</dcterms:modified>
  <cp:revision>36</cp:revision>
  <dc:subject/>
  <dc:title>Masuk dan Berkembanganya Islam ke Indonesia</dc:title>
</cp:coreProperties>
</file>