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40C1-954C-4A1E-9E2E-BFA4B0E04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EA7E-985A-498E-B102-A59EB0448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436-3A92-44AA-A920-6CBB1EAE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B77-8680-400F-9BE2-8574BA0E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900-5040-4D81-AC04-32CE9D0B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14F-A996-40B2-813F-EF52246A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CE4D-98CD-4A21-8898-ECC9F5D2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11F0-9C0A-4D9B-93D9-9FE1CDAF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4940-4CBC-4C28-8B86-2E676C6A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B3CA-54C4-41B6-9B59-E6ABAF51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F96C-F79E-45ED-B03E-38F333D4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85E4-F751-4A72-BDDC-F716EF09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32A1-1042-4D80-BB06-E83363D7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1BA-68B2-49CE-90EB-E2AAB363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2E74-8F78-4012-A15A-789C8400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6286-8792-4B25-A630-734F20C5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E7C3-DC4A-4A28-9FBE-C9E4791E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10D9-A724-412A-A33E-BC8713EA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B125-A60F-4B50-A571-81ED7DB9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90BB5-3B62-476A-8408-16AA4056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3ACF-B493-449F-A8E6-CF39AC35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ABC0-E729-428C-B2DB-AF465B5E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2C71-E8C5-4291-BE97-8E365F32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A80E0-32ED-4A99-92B0-39CD302A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BD7-3873-49AF-AB26-BB003BD3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4FAB-D461-48E8-A247-E4A4D21A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0C0C8-C768-428E-9B6E-5319C04E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3487-50C9-46FA-BBBA-2EAB2FB3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5DB2E-5C14-4DB7-9BC3-6CA2EBBA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CA04-F833-4E43-A6E6-C376B577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0565B-D30F-458E-B0DF-21DEA60C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1EC6-0663-47AC-BB65-0C6F1621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9E5FC-8862-4734-AF01-9233EE4C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96167-D388-4E04-B21E-F9D2FDCA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B63E5-AD07-4BF4-A8EE-C033CD51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259-2C53-41EE-9B75-8550A554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043D-4E77-483C-9B52-E5713E7B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22EBC-D22B-4870-A184-843BE9D6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1749B-E50B-41B1-B4B7-42A97E54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C46B6-51B2-4604-A3CB-29A4E49B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EEE4C-0B79-46E3-8F64-04481203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D7670-2E7F-45BC-AB82-814438A1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AFD5B-5706-4B5A-9095-95A4D2EC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F60F-426F-4E6F-A232-89FFA6EA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7B67-261A-483C-8235-8E9E37F6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7CF-9A77-46D9-A432-A9BDF4A5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831-1DF6-427E-BE46-AD8613E7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1F1-0C10-4741-A237-53E344AB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ED4-35A7-4EC8-B3D5-488B995E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2BF-80F5-4E8F-A482-1256CC9C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40CF-23CC-40E2-95B6-58A16E23E20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3299-9E44-458B-9D2D-F40A47BFA04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7574-40E7-417C-9B04-7307F52F89A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63C3-7E2D-4C6F-8C67-75DEA7BCDF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K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KU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(Pertolongan Kesengsaraan Umum)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didirikan pada tahun 1923. PKU sekarang diubah menjadi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embinaan Kesejahteraan U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03:41:15Z</dcterms:created>
  <dc:creator>Valued Acer Customer</dc:creator>
  <dc:description/>
  <dc:language>en-US</dc:language>
  <cp:lastModifiedBy>Valued Acer Customer</cp:lastModifiedBy>
  <dcterms:modified xsi:type="dcterms:W3CDTF">2014-10-01T03:42:20Z</dcterms:modified>
  <cp:revision>1</cp:revision>
  <dc:subject/>
  <dc:title>PKU</dc:title>
</cp:coreProperties>
</file>